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2D0-FE99-438B-A855-9AF1F21E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582-7EF4-4CA6-A5D3-E7837C85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5B6-5326-4338-9341-11B6E4F9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F21-F4CF-4B8B-939E-C14E4D15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A8F-EF24-4C21-BE81-BE4356C2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C1F-3A10-42AC-AA35-C60963AF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C54-4D4B-4577-AACC-343FCED5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1C7-F062-407B-B939-3C95924D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C63-3989-46C6-931F-82CB9463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343-9679-4D83-84D6-906E2F40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E09-959B-4E36-A2FA-AA1BAB90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EA9-3EB5-47C1-B99D-CBF7C6D4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D0FA-2A66-4D76-8204-BE4FFE99FC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95360"/>
            <a:ext cx="9906120" cy="4574880"/>
            <a:chOff x="0" y="495360"/>
            <a:chExt cx="9906120" cy="4574880"/>
          </a:xfrm>
        </p:grpSpPr>
        <p:cxnSp>
          <p:nvCxnSpPr>
            <p:cNvPr id="42" name="_s2175"/>
            <p:cNvCxnSpPr>
              <a:stCxn id="43" idx="0"/>
              <a:endCxn id="44" idx="2"/>
            </p:cNvCxnSpPr>
            <p:nvPr/>
          </p:nvCxnSpPr>
          <p:spPr>
            <a:xfrm flipV="1" rot="16200000">
              <a:off x="1082160" y="2532600"/>
              <a:ext cx="199440" cy="5011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173"/>
            <p:cNvCxnSpPr>
              <a:stCxn id="46" idx="0"/>
              <a:endCxn id="44" idx="2"/>
            </p:cNvCxnSpPr>
            <p:nvPr/>
          </p:nvCxnSpPr>
          <p:spPr>
            <a:xfrm flipH="1" flipV="1" rot="5400000">
              <a:off x="580680" y="2532240"/>
              <a:ext cx="199440" cy="50220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171"/>
            <p:cNvCxnSpPr>
              <a:stCxn id="44" idx="0"/>
              <a:endCxn id="48" idx="2"/>
            </p:cNvCxnSpPr>
            <p:nvPr/>
          </p:nvCxnSpPr>
          <p:spPr>
            <a:xfrm rot="16200000">
              <a:off x="831960" y="2186280"/>
              <a:ext cx="19944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162"/>
            <p:cNvCxnSpPr>
              <a:stCxn id="48" idx="0"/>
              <a:endCxn id="50" idx="2"/>
            </p:cNvCxnSpPr>
            <p:nvPr/>
          </p:nvCxnSpPr>
          <p:spPr>
            <a:xfrm flipV="1" rot="16200000">
              <a:off x="831600" y="1589040"/>
              <a:ext cx="199440" cy="10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160"/>
            <p:cNvCxnSpPr>
              <a:stCxn id="52" idx="0"/>
              <a:endCxn id="53" idx="2"/>
            </p:cNvCxnSpPr>
            <p:nvPr/>
          </p:nvCxnSpPr>
          <p:spPr>
            <a:xfrm flipV="1" rot="16200000">
              <a:off x="2089440" y="4322160"/>
              <a:ext cx="199440" cy="5014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158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1587600" y="4321800"/>
              <a:ext cx="199440" cy="50220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156"/>
            <p:cNvCxnSpPr>
              <a:stCxn id="57" idx="0"/>
              <a:endCxn id="58" idx="2"/>
            </p:cNvCxnSpPr>
            <p:nvPr/>
          </p:nvCxnSpPr>
          <p:spPr>
            <a:xfrm flipV="1" rot="16200000">
              <a:off x="3343320" y="3474360"/>
              <a:ext cx="199800" cy="1003320"/>
            </a:xfrm>
            <a:prstGeom prst="bentConnector5">
              <a:avLst>
                <a:gd name="adj1" fmla="val 414981"/>
                <a:gd name="adj2" fmla="val 165936"/>
                <a:gd name="adj3" fmla="val -16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2154"/>
            <p:cNvCxnSpPr>
              <a:stCxn id="60" idx="0"/>
              <a:endCxn id="58" idx="2"/>
            </p:cNvCxnSpPr>
            <p:nvPr/>
          </p:nvCxnSpPr>
          <p:spPr>
            <a:xfrm rot="16200000">
              <a:off x="2841840" y="3975840"/>
              <a:ext cx="1998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2152"/>
            <p:cNvCxnSpPr>
              <a:stCxn id="53" idx="0"/>
              <a:endCxn id="58" idx="2"/>
            </p:cNvCxnSpPr>
            <p:nvPr/>
          </p:nvCxnSpPr>
          <p:spPr>
            <a:xfrm flipH="1" flipV="1" rot="5400000">
              <a:off x="2340000" y="3474360"/>
              <a:ext cx="199800" cy="1003680"/>
            </a:xfrm>
            <a:prstGeom prst="bentConnector5">
              <a:avLst>
                <a:gd name="adj1" fmla="val 414981"/>
                <a:gd name="adj2" fmla="val 165913"/>
                <a:gd name="adj3" fmla="val -16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2150"/>
            <p:cNvCxnSpPr>
              <a:stCxn id="58" idx="0"/>
              <a:endCxn id="63" idx="2"/>
            </p:cNvCxnSpPr>
            <p:nvPr/>
          </p:nvCxnSpPr>
          <p:spPr>
            <a:xfrm rot="16200000">
              <a:off x="2841480" y="337932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2148"/>
            <p:cNvCxnSpPr>
              <a:stCxn id="63" idx="0"/>
              <a:endCxn id="65" idx="2"/>
            </p:cNvCxnSpPr>
            <p:nvPr/>
          </p:nvCxnSpPr>
          <p:spPr>
            <a:xfrm rot="16200000">
              <a:off x="2841480" y="278244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2146"/>
            <p:cNvCxnSpPr>
              <a:stCxn id="65" idx="0"/>
              <a:endCxn id="67" idx="2"/>
            </p:cNvCxnSpPr>
            <p:nvPr/>
          </p:nvCxnSpPr>
          <p:spPr>
            <a:xfrm rot="16200000">
              <a:off x="284148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2144"/>
            <p:cNvCxnSpPr>
              <a:stCxn id="67" idx="0"/>
              <a:endCxn id="69" idx="2"/>
            </p:cNvCxnSpPr>
            <p:nvPr/>
          </p:nvCxnSpPr>
          <p:spPr>
            <a:xfrm flipV="1" rot="16200000">
              <a:off x="2590920" y="1338120"/>
              <a:ext cx="199440" cy="5029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2142"/>
            <p:cNvCxnSpPr>
              <a:stCxn id="71" idx="0"/>
              <a:endCxn id="69" idx="2"/>
            </p:cNvCxnSpPr>
            <p:nvPr/>
          </p:nvCxnSpPr>
          <p:spPr>
            <a:xfrm flipH="1" flipV="1" rot="5400000">
              <a:off x="2088000" y="1338120"/>
              <a:ext cx="199440" cy="5029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2140"/>
            <p:cNvCxnSpPr>
              <a:stCxn id="73" idx="0"/>
              <a:endCxn id="74" idx="2"/>
            </p:cNvCxnSpPr>
            <p:nvPr/>
          </p:nvCxnSpPr>
          <p:spPr>
            <a:xfrm flipV="1" rot="16200000">
              <a:off x="4600440" y="1933920"/>
              <a:ext cx="200880" cy="50364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130"/>
            <p:cNvCxnSpPr>
              <a:stCxn id="76" idx="0"/>
              <a:endCxn id="74" idx="2"/>
            </p:cNvCxnSpPr>
            <p:nvPr/>
          </p:nvCxnSpPr>
          <p:spPr>
            <a:xfrm flipH="1" flipV="1" rot="5400000">
              <a:off x="4096800" y="193428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2128"/>
            <p:cNvCxnSpPr>
              <a:stCxn id="74" idx="0"/>
              <a:endCxn id="78" idx="2"/>
            </p:cNvCxnSpPr>
            <p:nvPr/>
          </p:nvCxnSpPr>
          <p:spPr>
            <a:xfrm rot="16200000">
              <a:off x="4349520" y="1589400"/>
              <a:ext cx="19944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120"/>
            <p:cNvCxnSpPr>
              <a:stCxn id="80" idx="0"/>
              <a:endCxn id="81" idx="2"/>
            </p:cNvCxnSpPr>
            <p:nvPr/>
          </p:nvCxnSpPr>
          <p:spPr>
            <a:xfrm flipV="1" rot="16200000">
              <a:off x="6109200" y="253080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118"/>
            <p:cNvCxnSpPr>
              <a:stCxn id="83" idx="0"/>
              <a:endCxn id="81" idx="2"/>
            </p:cNvCxnSpPr>
            <p:nvPr/>
          </p:nvCxnSpPr>
          <p:spPr>
            <a:xfrm flipH="1" flipV="1" rot="5400000">
              <a:off x="5605920" y="253116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116"/>
            <p:cNvCxnSpPr>
              <a:stCxn id="81" idx="0"/>
              <a:endCxn id="85" idx="2"/>
            </p:cNvCxnSpPr>
            <p:nvPr/>
          </p:nvCxnSpPr>
          <p:spPr>
            <a:xfrm rot="16200000">
              <a:off x="585792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2110"/>
            <p:cNvCxnSpPr>
              <a:stCxn id="85" idx="0"/>
              <a:endCxn id="87" idx="2"/>
            </p:cNvCxnSpPr>
            <p:nvPr/>
          </p:nvCxnSpPr>
          <p:spPr>
            <a:xfrm flipV="1" rot="16200000">
              <a:off x="5858280" y="1589040"/>
              <a:ext cx="199440" cy="10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2108"/>
            <p:cNvCxnSpPr>
              <a:stCxn id="89" idx="0"/>
              <a:endCxn id="90" idx="2"/>
            </p:cNvCxnSpPr>
            <p:nvPr/>
          </p:nvCxnSpPr>
          <p:spPr>
            <a:xfrm flipV="1" rot="16200000">
              <a:off x="7617600" y="1935000"/>
              <a:ext cx="199440" cy="50256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104"/>
            <p:cNvCxnSpPr>
              <a:stCxn id="92" idx="0"/>
              <a:endCxn id="90" idx="2"/>
            </p:cNvCxnSpPr>
            <p:nvPr/>
          </p:nvCxnSpPr>
          <p:spPr>
            <a:xfrm flipH="1" flipV="1" rot="5400000">
              <a:off x="7114680" y="1935000"/>
              <a:ext cx="199440" cy="5032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102"/>
            <p:cNvCxnSpPr>
              <a:stCxn id="94" idx="0"/>
              <a:endCxn id="95" idx="2"/>
            </p:cNvCxnSpPr>
            <p:nvPr/>
          </p:nvCxnSpPr>
          <p:spPr>
            <a:xfrm flipV="1" rot="16200000">
              <a:off x="9124200" y="2531160"/>
              <a:ext cx="200880" cy="50292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98"/>
            <p:cNvCxnSpPr>
              <a:stCxn id="97" idx="0"/>
              <a:endCxn id="95" idx="2"/>
            </p:cNvCxnSpPr>
            <p:nvPr/>
          </p:nvCxnSpPr>
          <p:spPr>
            <a:xfrm flipH="1" flipV="1" rot="5400000">
              <a:off x="8620920" y="253116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070"/>
            <p:cNvCxnSpPr>
              <a:stCxn id="95" idx="0"/>
              <a:endCxn id="99" idx="2"/>
            </p:cNvCxnSpPr>
            <p:nvPr/>
          </p:nvCxnSpPr>
          <p:spPr>
            <a:xfrm rot="16200000">
              <a:off x="887292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2068"/>
            <p:cNvCxnSpPr>
              <a:stCxn id="99" idx="0"/>
              <a:endCxn id="101" idx="2"/>
            </p:cNvCxnSpPr>
            <p:nvPr/>
          </p:nvCxnSpPr>
          <p:spPr>
            <a:xfrm flipV="1" rot="16200000">
              <a:off x="8496720" y="1212480"/>
              <a:ext cx="199440" cy="753840"/>
            </a:xfrm>
            <a:prstGeom prst="bentConnector5">
              <a:avLst>
                <a:gd name="adj1" fmla="val 116636"/>
                <a:gd name="adj2" fmla="val -87912"/>
                <a:gd name="adj3" fmla="val -3153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066"/>
            <p:cNvCxnSpPr>
              <a:stCxn id="90" idx="0"/>
              <a:endCxn id="101" idx="2"/>
            </p:cNvCxnSpPr>
            <p:nvPr/>
          </p:nvCxnSpPr>
          <p:spPr>
            <a:xfrm flipH="1" flipV="1" rot="5400000">
              <a:off x="7742880" y="1212840"/>
              <a:ext cx="199440" cy="753840"/>
            </a:xfrm>
            <a:prstGeom prst="bentConnector5">
              <a:avLst>
                <a:gd name="adj1" fmla="val 116455"/>
                <a:gd name="adj2" fmla="val -87864"/>
                <a:gd name="adj3" fmla="val -3160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64"/>
            <p:cNvCxnSpPr>
              <a:stCxn id="101" idx="0"/>
              <a:endCxn id="104" idx="2"/>
            </p:cNvCxnSpPr>
            <p:nvPr/>
          </p:nvCxnSpPr>
          <p:spPr>
            <a:xfrm flipV="1" rot="16200000">
              <a:off x="6297840" y="-829800"/>
              <a:ext cx="199440" cy="3645000"/>
            </a:xfrm>
            <a:prstGeom prst="bentConnector5">
              <a:avLst>
                <a:gd name="adj1" fmla="val 116636"/>
                <a:gd name="adj2" fmla="val 48093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62"/>
            <p:cNvCxnSpPr>
              <a:stCxn id="87" idx="0"/>
              <a:endCxn id="104" idx="2"/>
            </p:cNvCxnSpPr>
            <p:nvPr/>
          </p:nvCxnSpPr>
          <p:spPr>
            <a:xfrm flipV="1" rot="16200000">
              <a:off x="5166720" y="301320"/>
              <a:ext cx="199440" cy="1382760"/>
            </a:xfrm>
            <a:prstGeom prst="bentConnector5">
              <a:avLst>
                <a:gd name="adj1" fmla="val 116636"/>
                <a:gd name="adj2" fmla="val -47942"/>
                <a:gd name="adj3" fmla="val -3160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060"/>
            <p:cNvCxnSpPr>
              <a:stCxn id="78" idx="0"/>
              <a:endCxn id="104" idx="2"/>
            </p:cNvCxnSpPr>
            <p:nvPr/>
          </p:nvCxnSpPr>
          <p:spPr>
            <a:xfrm flipH="1" flipV="1" rot="5400000">
              <a:off x="4412160" y="929520"/>
              <a:ext cx="199440" cy="12636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059"/>
            <p:cNvCxnSpPr>
              <a:stCxn id="69" idx="0"/>
              <a:endCxn id="104" idx="2"/>
            </p:cNvCxnSpPr>
            <p:nvPr/>
          </p:nvCxnSpPr>
          <p:spPr>
            <a:xfrm flipH="1" flipV="1" rot="5400000">
              <a:off x="3407040" y="-75240"/>
              <a:ext cx="199440" cy="2136240"/>
            </a:xfrm>
            <a:prstGeom prst="bentConnector5">
              <a:avLst>
                <a:gd name="adj1" fmla="val 116636"/>
                <a:gd name="adj2" fmla="val 46435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8"/>
            <p:cNvCxnSpPr>
              <a:stCxn id="50" idx="0"/>
              <a:endCxn id="104" idx="2"/>
            </p:cNvCxnSpPr>
            <p:nvPr/>
          </p:nvCxnSpPr>
          <p:spPr>
            <a:xfrm flipH="1" flipV="1" rot="5400000">
              <a:off x="2652840" y="-829440"/>
              <a:ext cx="199440" cy="3644640"/>
            </a:xfrm>
            <a:prstGeom prst="bentConnector5">
              <a:avLst>
                <a:gd name="adj1" fmla="val 116636"/>
                <a:gd name="adj2" fmla="val 47910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2054"/>
            <p:cNvSpPr/>
            <p:nvPr/>
          </p:nvSpPr>
          <p:spPr>
            <a:xfrm>
              <a:off x="4143960" y="495360"/>
              <a:ext cx="862200" cy="39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قال رسول الله صلى الله عليه وسلّم: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”أقرأني جبريل على حَرف، فلم أزل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 أستزيده حتى انتهى إلى سبعة أحرف“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 رواه البخاري عن ابن عبّا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رضي الله عنه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55"/>
            <p:cNvSpPr/>
            <p:nvPr/>
          </p:nvSpPr>
          <p:spPr>
            <a:xfrm>
              <a:off x="49968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ي بن أبي طالب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056"/>
            <p:cNvSpPr/>
            <p:nvPr/>
          </p:nvSpPr>
          <p:spPr>
            <a:xfrm>
              <a:off x="200808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مسعود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7"/>
            <p:cNvSpPr/>
            <p:nvPr/>
          </p:nvSpPr>
          <p:spPr>
            <a:xfrm>
              <a:off x="401796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ي الدرداء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61"/>
            <p:cNvSpPr/>
            <p:nvPr/>
          </p:nvSpPr>
          <p:spPr>
            <a:xfrm>
              <a:off x="552636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ُبي بن كعب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3"/>
            <p:cNvSpPr/>
            <p:nvPr/>
          </p:nvSpPr>
          <p:spPr>
            <a:xfrm>
              <a:off x="7788960" y="109224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نس بن مالك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5"/>
            <p:cNvSpPr/>
            <p:nvPr/>
          </p:nvSpPr>
          <p:spPr>
            <a:xfrm>
              <a:off x="7035480" y="168912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و عمرو بن العلاء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د القُرّاء السبع وأكثرهم شيوخ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67"/>
            <p:cNvSpPr/>
            <p:nvPr/>
          </p:nvSpPr>
          <p:spPr>
            <a:xfrm>
              <a:off x="854244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زهري (تابع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9"/>
            <p:cNvSpPr/>
            <p:nvPr/>
          </p:nvSpPr>
          <p:spPr>
            <a:xfrm>
              <a:off x="854244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نافع بن أبي نعي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إمام أهل المدينة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97"/>
            <p:cNvSpPr/>
            <p:nvPr/>
          </p:nvSpPr>
          <p:spPr>
            <a:xfrm>
              <a:off x="803952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بيبه قالو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قارئ بالمدين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101"/>
            <p:cNvSpPr/>
            <p:nvPr/>
          </p:nvSpPr>
          <p:spPr>
            <a:xfrm>
              <a:off x="904500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تلميذه ورش شيخ القُرّاء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لمحققين انتهت إليه رئاس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 الإقراء بالديار المصري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103"/>
            <p:cNvSpPr/>
            <p:nvPr/>
          </p:nvSpPr>
          <p:spPr>
            <a:xfrm>
              <a:off x="653256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سوس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عن يحيى اليزيد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ُقرئ ضابط محرّر ثِق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107"/>
            <p:cNvSpPr/>
            <p:nvPr/>
          </p:nvSpPr>
          <p:spPr>
            <a:xfrm>
              <a:off x="753768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الدوري (عن يحيى اليزيد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القُرّاء ويخ الناس في زما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ثقة ضابط أول من جمع القراءا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قرأ بسائر القراءات السبع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109"/>
            <p:cNvSpPr/>
            <p:nvPr/>
          </p:nvSpPr>
          <p:spPr>
            <a:xfrm>
              <a:off x="552744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السائب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صحاب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115"/>
            <p:cNvSpPr/>
            <p:nvPr/>
          </p:nvSpPr>
          <p:spPr>
            <a:xfrm>
              <a:off x="552744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كثير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إمام  أهل مكة في القراءة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117"/>
            <p:cNvSpPr/>
            <p:nvPr/>
          </p:nvSpPr>
          <p:spPr>
            <a:xfrm>
              <a:off x="5024160" y="288288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بزّي (عن عكرمة عن قسط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البزّي هو مُقرئ مكة ومؤذّ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مسجد الحرا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119"/>
            <p:cNvSpPr/>
            <p:nvPr/>
          </p:nvSpPr>
          <p:spPr>
            <a:xfrm>
              <a:off x="603036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قنبل (عن القواس عن قسط)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قنبل هو شيخ القُرّاء بالحجاز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127"/>
            <p:cNvSpPr/>
            <p:nvPr/>
          </p:nvSpPr>
          <p:spPr>
            <a:xfrm>
              <a:off x="4017960" y="168912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عامر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أهل الشام في القراءة وانتهت إلي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شيخة الإقراء بها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129"/>
            <p:cNvSpPr/>
            <p:nvPr/>
          </p:nvSpPr>
          <p:spPr>
            <a:xfrm>
              <a:off x="3515040" y="228600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بن ذكوان (عن أيوب التمي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ن يحيى الزماري)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اوي ثقة شيخ الإقراء بالشا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إمام جامع دمشق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139"/>
            <p:cNvSpPr/>
            <p:nvPr/>
          </p:nvSpPr>
          <p:spPr>
            <a:xfrm>
              <a:off x="4521240" y="228600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هشام (عن أيوب التميمي عن يحيى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زماري) إمام أهل دمشق وخطيبه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محدثهم ومقرئهم ومفتيهم رجع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امامة إليه وإلى أبن ذكوا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عد وفاة أيوب التمي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141"/>
            <p:cNvSpPr/>
            <p:nvPr/>
          </p:nvSpPr>
          <p:spPr>
            <a:xfrm>
              <a:off x="150588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زر بن حبيش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143"/>
            <p:cNvSpPr/>
            <p:nvPr/>
          </p:nvSpPr>
          <p:spPr>
            <a:xfrm>
              <a:off x="251100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قمة بن قيس (تابعي) كان م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سن الناس صوتاً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145"/>
            <p:cNvSpPr/>
            <p:nvPr/>
          </p:nvSpPr>
          <p:spPr>
            <a:xfrm>
              <a:off x="2512080" y="228600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براهيم النخع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مشهور كان صالحاً زاهداً وعالم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147"/>
            <p:cNvSpPr/>
            <p:nvPr/>
          </p:nvSpPr>
          <p:spPr>
            <a:xfrm>
              <a:off x="2512080" y="288288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سليمان الأعمش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لقي كبار التابعي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149"/>
            <p:cNvSpPr/>
            <p:nvPr/>
          </p:nvSpPr>
          <p:spPr>
            <a:xfrm>
              <a:off x="2512080" y="347976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حمزة بن حبيب بن عمار بن اسماعيل الزيات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أزهد القُرّاء، الامام الحبر وأحد القُراء السبع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صارت الامامة إليه بعد عاصم والاعمش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وكان كفيفاً وهو حجة ثقة قيما بكتاب الله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بصيراً بالفرائض عارفاً بالعربية حافظاً للحديث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عابداً زاهداً خاشعاً ورِعاً قانتاً لله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151"/>
            <p:cNvSpPr/>
            <p:nvPr/>
          </p:nvSpPr>
          <p:spPr>
            <a:xfrm>
              <a:off x="1508760" y="4075560"/>
              <a:ext cx="85932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ي بن جمزة بن عبد الله الكسائ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نتهت إليه رئاسة الإقراء بالكوف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عد حمزة الزيات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كان إمام الناس بالقراءة في عهده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أعلمهم بالنحو وأوحدهم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2153"/>
            <p:cNvSpPr/>
            <p:nvPr/>
          </p:nvSpPr>
          <p:spPr>
            <a:xfrm>
              <a:off x="2512080" y="407556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خَلَف بن هشام الأسد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د القُراء العشرة روى عن سليم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ن عيسى عن حمزة حفظ القرآن ابن عشر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سنين كان ثقة كبيراً زاهداً عابداً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لم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155"/>
            <p:cNvSpPr/>
            <p:nvPr/>
          </p:nvSpPr>
          <p:spPr>
            <a:xfrm>
              <a:off x="3515040" y="4075560"/>
              <a:ext cx="85896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خلاد بن خالد الشيبان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ف القراءة ثقة عارف محقق أستاذ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وى عن سليم بن عيسى بن  حمز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157"/>
            <p:cNvSpPr/>
            <p:nvPr/>
          </p:nvSpPr>
          <p:spPr>
            <a:xfrm>
              <a:off x="1006920" y="467244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ليث بن خالد البغدد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ثقة معروف ضابط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159"/>
            <p:cNvSpPr/>
            <p:nvPr/>
          </p:nvSpPr>
          <p:spPr>
            <a:xfrm>
              <a:off x="2009880" y="4672440"/>
              <a:ext cx="859320" cy="3978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الدور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هو راوي أبي عمرو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161"/>
            <p:cNvSpPr/>
            <p:nvPr/>
          </p:nvSpPr>
          <p:spPr>
            <a:xfrm>
              <a:off x="500760" y="168912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ي عبد الرحمن السل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ُقرئ الكوف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_s1028"/>
            <p:cNvCxnSpPr/>
            <p:nvPr/>
          </p:nvCxnSpPr>
          <p:spPr>
            <a:xfrm flipH="1" flipV="1" rot="5400000">
              <a:off x="1855440" y="2135520"/>
              <a:ext cx="111240" cy="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" name="_s2170"/>
            <p:cNvSpPr/>
            <p:nvPr/>
          </p:nvSpPr>
          <p:spPr>
            <a:xfrm>
              <a:off x="501840" y="2286000"/>
              <a:ext cx="85896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صم بن بهدلة أبي النجود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شيخ الإقراء بالكوفة وأحد القُراء السبع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هو الامام  الذي انتهت إليه رئاس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قراءة بالكوفة بعد أبي عبد الرحم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سلمي وكان أحسن الناس صوتاً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172"/>
            <p:cNvSpPr/>
            <p:nvPr/>
          </p:nvSpPr>
          <p:spPr>
            <a:xfrm>
              <a:off x="0" y="2882880"/>
              <a:ext cx="858960" cy="3978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بن سليمان الأسد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كان ربيب عاصم ابن زوجته وهو ثق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 ضابط للقراءة، كان أعلم الناس بقراء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ص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174"/>
            <p:cNvSpPr/>
            <p:nvPr/>
          </p:nvSpPr>
          <p:spPr>
            <a:xfrm>
              <a:off x="1002600" y="2882880"/>
              <a:ext cx="859320" cy="394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شعبة بن عياش بن سال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و بكر الأسد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رض القرآن على عاصم ثلاث مرا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كان إماماً كبيراُ عالماً عامل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H="1">
            <a:off x="944640" y="2200320"/>
            <a:ext cx="97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94800" y="5827680"/>
            <a:ext cx="1950840" cy="107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شروط صحة هذه القراءات هي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التوات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موافقة الرسم العثمان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أن توافق قواعد اللغة العربي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وما خالف ذلك فهو شاذّ ولا يجوز الصلاة به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-1022400" y="5776920"/>
            <a:ext cx="2879280" cy="1054080"/>
            <a:chOff x="-1022400" y="5776920"/>
            <a:chExt cx="2879280" cy="1054080"/>
          </a:xfrm>
        </p:grpSpPr>
        <p:sp>
          <p:nvSpPr>
            <p:cNvPr id="113" name=""/>
            <p:cNvSpPr/>
            <p:nvPr/>
          </p:nvSpPr>
          <p:spPr>
            <a:xfrm>
              <a:off x="-468360" y="5840280"/>
              <a:ext cx="2286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080" y="5866920"/>
              <a:ext cx="277560" cy="202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1160" y="6099480"/>
              <a:ext cx="277560" cy="202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1160" y="6326640"/>
              <a:ext cx="277560" cy="2023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1160" y="6579360"/>
              <a:ext cx="277560" cy="202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400680" y="5872320"/>
              <a:ext cx="190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صحابة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-988200" y="6104160"/>
              <a:ext cx="249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تابعين وأتباعهم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813600" y="6332400"/>
              <a:ext cx="231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قُرّاء السبع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1022400" y="6583680"/>
              <a:ext cx="252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رواة القُرّاء السبع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00" y="5776920"/>
              <a:ext cx="1808280" cy="1054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297240" y="0"/>
            <a:ext cx="2716200" cy="40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Arial"/>
              </a:rPr>
              <a:t>شجرة تواتر القراءات السبع عن رسول الله صلى الله عليه وسلّ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2:42:25Z</dcterms:created>
  <dc:creator>Dr. Issa H. Alansari</dc:creator>
  <dc:description/>
  <dc:language>en-US</dc:language>
  <cp:lastModifiedBy>Dr. Issa H. Alansari</cp:lastModifiedBy>
  <dcterms:modified xsi:type="dcterms:W3CDTF">2004-07-20T17:40:53Z</dcterms:modified>
  <cp:revision>13</cp:revision>
  <dc:subject/>
  <dc:title>Slide 1</dc:title>
</cp:coreProperties>
</file>