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865D-02B7-484A-B51E-E5BC18780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26B7-7927-4CA9-938C-CD48A725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6B5F-D72A-4243-B365-4D409BA03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F862-EBEB-427E-8FEC-A1469BC1C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A0FC-2646-4A22-91BE-68C42B2F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6F06-98C8-4B75-9685-426C8946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3848-0631-4586-8B88-11D2B8E6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2A0F-2283-4EC8-9346-6E8F93F4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2C60-BFEF-4C89-BC89-6FA59759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5C89-A143-4E92-B077-217C7842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B669-D4FA-4764-B8F9-7D848023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AFE7-9C77-45A8-A68E-C12D55A1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3004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3004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3004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E7C7-A4BF-4FE7-8E27-892470508A3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495360"/>
            <a:ext cx="9906120" cy="4574880"/>
            <a:chOff x="0" y="495360"/>
            <a:chExt cx="9906120" cy="4574880"/>
          </a:xfrm>
        </p:grpSpPr>
        <p:cxnSp>
          <p:nvCxnSpPr>
            <p:cNvPr id="42" name="_s2175"/>
            <p:cNvCxnSpPr>
              <a:stCxn id="43" idx="0"/>
              <a:endCxn id="44" idx="2"/>
            </p:cNvCxnSpPr>
            <p:nvPr/>
          </p:nvCxnSpPr>
          <p:spPr>
            <a:xfrm flipV="1" rot="16200000">
              <a:off x="1082160" y="2532600"/>
              <a:ext cx="199440" cy="501120"/>
            </a:xfrm>
            <a:prstGeom prst="bentConnector3">
              <a:avLst>
                <a:gd name="adj1" fmla="val 500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5" name="_s2173"/>
            <p:cNvCxnSpPr>
              <a:stCxn id="46" idx="0"/>
              <a:endCxn id="44" idx="2"/>
            </p:cNvCxnSpPr>
            <p:nvPr/>
          </p:nvCxnSpPr>
          <p:spPr>
            <a:xfrm flipH="1" flipV="1" rot="5400000">
              <a:off x="580680" y="2532240"/>
              <a:ext cx="199440" cy="502200"/>
            </a:xfrm>
            <a:prstGeom prst="bentConnector3">
              <a:avLst>
                <a:gd name="adj1" fmla="val 500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" name="_s2171"/>
            <p:cNvCxnSpPr>
              <a:stCxn id="44" idx="0"/>
              <a:endCxn id="48" idx="2"/>
            </p:cNvCxnSpPr>
            <p:nvPr/>
          </p:nvCxnSpPr>
          <p:spPr>
            <a:xfrm rot="16200000">
              <a:off x="831960" y="2186280"/>
              <a:ext cx="19944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9" name="_s2162"/>
            <p:cNvCxnSpPr>
              <a:stCxn id="48" idx="0"/>
              <a:endCxn id="50" idx="2"/>
            </p:cNvCxnSpPr>
            <p:nvPr/>
          </p:nvCxnSpPr>
          <p:spPr>
            <a:xfrm flipV="1" rot="16200000">
              <a:off x="831600" y="1589040"/>
              <a:ext cx="199440" cy="1080"/>
            </a:xfrm>
            <a:prstGeom prst="bentConnector3">
              <a:avLst>
                <a:gd name="adj1" fmla="val 500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2160"/>
            <p:cNvCxnSpPr>
              <a:stCxn id="52" idx="0"/>
              <a:endCxn id="53" idx="2"/>
            </p:cNvCxnSpPr>
            <p:nvPr/>
          </p:nvCxnSpPr>
          <p:spPr>
            <a:xfrm flipV="1" rot="16200000">
              <a:off x="2089440" y="4322160"/>
              <a:ext cx="199440" cy="501480"/>
            </a:xfrm>
            <a:prstGeom prst="bentConnector3">
              <a:avLst>
                <a:gd name="adj1" fmla="val 500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2158"/>
            <p:cNvCxnSpPr>
              <a:stCxn id="55" idx="0"/>
              <a:endCxn id="53" idx="2"/>
            </p:cNvCxnSpPr>
            <p:nvPr/>
          </p:nvCxnSpPr>
          <p:spPr>
            <a:xfrm flipH="1" flipV="1" rot="5400000">
              <a:off x="1587600" y="4321800"/>
              <a:ext cx="199440" cy="502200"/>
            </a:xfrm>
            <a:prstGeom prst="bentConnector3">
              <a:avLst>
                <a:gd name="adj1" fmla="val 500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2156"/>
            <p:cNvCxnSpPr>
              <a:stCxn id="57" idx="0"/>
              <a:endCxn id="58" idx="2"/>
            </p:cNvCxnSpPr>
            <p:nvPr/>
          </p:nvCxnSpPr>
          <p:spPr>
            <a:xfrm flipV="1" rot="16200000">
              <a:off x="3343320" y="3474360"/>
              <a:ext cx="199800" cy="1003320"/>
            </a:xfrm>
            <a:prstGeom prst="bentConnector5">
              <a:avLst>
                <a:gd name="adj1" fmla="val 414981"/>
                <a:gd name="adj2" fmla="val 165936"/>
                <a:gd name="adj3" fmla="val -1606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2154"/>
            <p:cNvCxnSpPr>
              <a:stCxn id="60" idx="0"/>
              <a:endCxn id="58" idx="2"/>
            </p:cNvCxnSpPr>
            <p:nvPr/>
          </p:nvCxnSpPr>
          <p:spPr>
            <a:xfrm rot="16200000">
              <a:off x="2841840" y="3975840"/>
              <a:ext cx="19980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2152"/>
            <p:cNvCxnSpPr>
              <a:stCxn id="53" idx="0"/>
              <a:endCxn id="58" idx="2"/>
            </p:cNvCxnSpPr>
            <p:nvPr/>
          </p:nvCxnSpPr>
          <p:spPr>
            <a:xfrm flipH="1" flipV="1" rot="5400000">
              <a:off x="2340000" y="3474360"/>
              <a:ext cx="199800" cy="1003680"/>
            </a:xfrm>
            <a:prstGeom prst="bentConnector5">
              <a:avLst>
                <a:gd name="adj1" fmla="val 414981"/>
                <a:gd name="adj2" fmla="val 165913"/>
                <a:gd name="adj3" fmla="val -1606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2150"/>
            <p:cNvCxnSpPr>
              <a:stCxn id="58" idx="0"/>
              <a:endCxn id="63" idx="2"/>
            </p:cNvCxnSpPr>
            <p:nvPr/>
          </p:nvCxnSpPr>
          <p:spPr>
            <a:xfrm rot="16200000">
              <a:off x="2841480" y="3379320"/>
              <a:ext cx="20088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2148"/>
            <p:cNvCxnSpPr>
              <a:stCxn id="63" idx="0"/>
              <a:endCxn id="65" idx="2"/>
            </p:cNvCxnSpPr>
            <p:nvPr/>
          </p:nvCxnSpPr>
          <p:spPr>
            <a:xfrm rot="16200000">
              <a:off x="2841480" y="2782440"/>
              <a:ext cx="20088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2146"/>
            <p:cNvCxnSpPr>
              <a:stCxn id="65" idx="0"/>
              <a:endCxn id="67" idx="2"/>
            </p:cNvCxnSpPr>
            <p:nvPr/>
          </p:nvCxnSpPr>
          <p:spPr>
            <a:xfrm rot="16200000">
              <a:off x="2841480" y="2185560"/>
              <a:ext cx="20088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2144"/>
            <p:cNvCxnSpPr>
              <a:stCxn id="67" idx="0"/>
              <a:endCxn id="69" idx="2"/>
            </p:cNvCxnSpPr>
            <p:nvPr/>
          </p:nvCxnSpPr>
          <p:spPr>
            <a:xfrm flipV="1" rot="16200000">
              <a:off x="2590920" y="1338120"/>
              <a:ext cx="199440" cy="502920"/>
            </a:xfrm>
            <a:prstGeom prst="bentConnector3">
              <a:avLst>
                <a:gd name="adj1" fmla="val 500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2142"/>
            <p:cNvCxnSpPr>
              <a:stCxn id="71" idx="0"/>
              <a:endCxn id="69" idx="2"/>
            </p:cNvCxnSpPr>
            <p:nvPr/>
          </p:nvCxnSpPr>
          <p:spPr>
            <a:xfrm flipH="1" flipV="1" rot="5400000">
              <a:off x="2088000" y="1338120"/>
              <a:ext cx="199440" cy="502920"/>
            </a:xfrm>
            <a:prstGeom prst="bentConnector3">
              <a:avLst>
                <a:gd name="adj1" fmla="val 500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2140"/>
            <p:cNvCxnSpPr>
              <a:stCxn id="73" idx="0"/>
              <a:endCxn id="74" idx="2"/>
            </p:cNvCxnSpPr>
            <p:nvPr/>
          </p:nvCxnSpPr>
          <p:spPr>
            <a:xfrm flipV="1" rot="16200000">
              <a:off x="4600440" y="1933920"/>
              <a:ext cx="200880" cy="503640"/>
            </a:xfrm>
            <a:prstGeom prst="bentConnector3">
              <a:avLst>
                <a:gd name="adj1" fmla="val 500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" name="_s2130"/>
            <p:cNvCxnSpPr>
              <a:stCxn id="76" idx="0"/>
              <a:endCxn id="74" idx="2"/>
            </p:cNvCxnSpPr>
            <p:nvPr/>
          </p:nvCxnSpPr>
          <p:spPr>
            <a:xfrm flipH="1" flipV="1" rot="5400000">
              <a:off x="4096800" y="1934280"/>
              <a:ext cx="200880" cy="503280"/>
            </a:xfrm>
            <a:prstGeom prst="bentConnector3">
              <a:avLst>
                <a:gd name="adj1" fmla="val 500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2128"/>
            <p:cNvCxnSpPr>
              <a:stCxn id="74" idx="0"/>
              <a:endCxn id="78" idx="2"/>
            </p:cNvCxnSpPr>
            <p:nvPr/>
          </p:nvCxnSpPr>
          <p:spPr>
            <a:xfrm rot="16200000">
              <a:off x="4349520" y="1589400"/>
              <a:ext cx="19944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2120"/>
            <p:cNvCxnSpPr>
              <a:stCxn id="80" idx="0"/>
              <a:endCxn id="81" idx="2"/>
            </p:cNvCxnSpPr>
            <p:nvPr/>
          </p:nvCxnSpPr>
          <p:spPr>
            <a:xfrm flipV="1" rot="16200000">
              <a:off x="6109200" y="2530800"/>
              <a:ext cx="200880" cy="503280"/>
            </a:xfrm>
            <a:prstGeom prst="bentConnector3">
              <a:avLst>
                <a:gd name="adj1" fmla="val 500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_s2118"/>
            <p:cNvCxnSpPr>
              <a:stCxn id="83" idx="0"/>
              <a:endCxn id="81" idx="2"/>
            </p:cNvCxnSpPr>
            <p:nvPr/>
          </p:nvCxnSpPr>
          <p:spPr>
            <a:xfrm flipH="1" flipV="1" rot="5400000">
              <a:off x="5605920" y="2531160"/>
              <a:ext cx="200880" cy="503280"/>
            </a:xfrm>
            <a:prstGeom prst="bentConnector3">
              <a:avLst>
                <a:gd name="adj1" fmla="val 500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2116"/>
            <p:cNvCxnSpPr>
              <a:stCxn id="81" idx="0"/>
              <a:endCxn id="85" idx="2"/>
            </p:cNvCxnSpPr>
            <p:nvPr/>
          </p:nvCxnSpPr>
          <p:spPr>
            <a:xfrm rot="16200000">
              <a:off x="5857920" y="2185560"/>
              <a:ext cx="20088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2110"/>
            <p:cNvCxnSpPr>
              <a:stCxn id="85" idx="0"/>
              <a:endCxn id="87" idx="2"/>
            </p:cNvCxnSpPr>
            <p:nvPr/>
          </p:nvCxnSpPr>
          <p:spPr>
            <a:xfrm flipV="1" rot="16200000">
              <a:off x="5858280" y="1589040"/>
              <a:ext cx="199440" cy="1080"/>
            </a:xfrm>
            <a:prstGeom prst="bentConnector3">
              <a:avLst>
                <a:gd name="adj1" fmla="val 500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8" name="_s2108"/>
            <p:cNvCxnSpPr>
              <a:stCxn id="89" idx="0"/>
              <a:endCxn id="90" idx="2"/>
            </p:cNvCxnSpPr>
            <p:nvPr/>
          </p:nvCxnSpPr>
          <p:spPr>
            <a:xfrm flipV="1" rot="16200000">
              <a:off x="7617600" y="1935000"/>
              <a:ext cx="199440" cy="502560"/>
            </a:xfrm>
            <a:prstGeom prst="bentConnector3">
              <a:avLst>
                <a:gd name="adj1" fmla="val 500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1" name="_s2104"/>
            <p:cNvCxnSpPr>
              <a:stCxn id="92" idx="0"/>
              <a:endCxn id="90" idx="2"/>
            </p:cNvCxnSpPr>
            <p:nvPr/>
          </p:nvCxnSpPr>
          <p:spPr>
            <a:xfrm flipH="1" flipV="1" rot="5400000">
              <a:off x="7114680" y="1935000"/>
              <a:ext cx="199440" cy="503280"/>
            </a:xfrm>
            <a:prstGeom prst="bentConnector3">
              <a:avLst>
                <a:gd name="adj1" fmla="val 500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2102"/>
            <p:cNvCxnSpPr>
              <a:stCxn id="94" idx="0"/>
              <a:endCxn id="95" idx="2"/>
            </p:cNvCxnSpPr>
            <p:nvPr/>
          </p:nvCxnSpPr>
          <p:spPr>
            <a:xfrm flipV="1" rot="16200000">
              <a:off x="9124200" y="2531160"/>
              <a:ext cx="200880" cy="502920"/>
            </a:xfrm>
            <a:prstGeom prst="bentConnector3">
              <a:avLst>
                <a:gd name="adj1" fmla="val 500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6" name="_s2098"/>
            <p:cNvCxnSpPr>
              <a:stCxn id="97" idx="0"/>
              <a:endCxn id="95" idx="2"/>
            </p:cNvCxnSpPr>
            <p:nvPr/>
          </p:nvCxnSpPr>
          <p:spPr>
            <a:xfrm flipH="1" flipV="1" rot="5400000">
              <a:off x="8620920" y="2531160"/>
              <a:ext cx="200880" cy="503280"/>
            </a:xfrm>
            <a:prstGeom prst="bentConnector3">
              <a:avLst>
                <a:gd name="adj1" fmla="val 500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8" name="_s2070"/>
            <p:cNvCxnSpPr>
              <a:stCxn id="95" idx="0"/>
              <a:endCxn id="99" idx="2"/>
            </p:cNvCxnSpPr>
            <p:nvPr/>
          </p:nvCxnSpPr>
          <p:spPr>
            <a:xfrm rot="16200000">
              <a:off x="8872920" y="2185560"/>
              <a:ext cx="20088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0" name="_s2068"/>
            <p:cNvCxnSpPr>
              <a:stCxn id="99" idx="0"/>
              <a:endCxn id="101" idx="2"/>
            </p:cNvCxnSpPr>
            <p:nvPr/>
          </p:nvCxnSpPr>
          <p:spPr>
            <a:xfrm flipV="1" rot="16200000">
              <a:off x="8496720" y="1212480"/>
              <a:ext cx="199440" cy="753840"/>
            </a:xfrm>
            <a:prstGeom prst="bentConnector5">
              <a:avLst>
                <a:gd name="adj1" fmla="val 116636"/>
                <a:gd name="adj2" fmla="val -87912"/>
                <a:gd name="adj3" fmla="val -31537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2066"/>
            <p:cNvCxnSpPr>
              <a:stCxn id="90" idx="0"/>
              <a:endCxn id="101" idx="2"/>
            </p:cNvCxnSpPr>
            <p:nvPr/>
          </p:nvCxnSpPr>
          <p:spPr>
            <a:xfrm flipH="1" flipV="1" rot="5400000">
              <a:off x="7742880" y="1212840"/>
              <a:ext cx="199440" cy="753840"/>
            </a:xfrm>
            <a:prstGeom prst="bentConnector5">
              <a:avLst>
                <a:gd name="adj1" fmla="val 116455"/>
                <a:gd name="adj2" fmla="val -87864"/>
                <a:gd name="adj3" fmla="val -3160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2064"/>
            <p:cNvCxnSpPr>
              <a:stCxn id="101" idx="0"/>
              <a:endCxn id="104" idx="2"/>
            </p:cNvCxnSpPr>
            <p:nvPr/>
          </p:nvCxnSpPr>
          <p:spPr>
            <a:xfrm flipV="1" rot="16200000">
              <a:off x="6297840" y="-829800"/>
              <a:ext cx="199440" cy="3645000"/>
            </a:xfrm>
            <a:prstGeom prst="bentConnector5">
              <a:avLst>
                <a:gd name="adj1" fmla="val 116636"/>
                <a:gd name="adj2" fmla="val 48093"/>
                <a:gd name="adj3" fmla="val -1627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2062"/>
            <p:cNvCxnSpPr>
              <a:stCxn id="87" idx="0"/>
              <a:endCxn id="104" idx="2"/>
            </p:cNvCxnSpPr>
            <p:nvPr/>
          </p:nvCxnSpPr>
          <p:spPr>
            <a:xfrm flipV="1" rot="16200000">
              <a:off x="5166720" y="301320"/>
              <a:ext cx="199440" cy="1382760"/>
            </a:xfrm>
            <a:prstGeom prst="bentConnector5">
              <a:avLst>
                <a:gd name="adj1" fmla="val 116636"/>
                <a:gd name="adj2" fmla="val -47942"/>
                <a:gd name="adj3" fmla="val -3160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2060"/>
            <p:cNvCxnSpPr>
              <a:stCxn id="78" idx="0"/>
              <a:endCxn id="104" idx="2"/>
            </p:cNvCxnSpPr>
            <p:nvPr/>
          </p:nvCxnSpPr>
          <p:spPr>
            <a:xfrm flipH="1" flipV="1" rot="5400000">
              <a:off x="4412160" y="929520"/>
              <a:ext cx="199440" cy="126360"/>
            </a:xfrm>
            <a:prstGeom prst="bentConnector3">
              <a:avLst>
                <a:gd name="adj1" fmla="val 500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2059"/>
            <p:cNvCxnSpPr>
              <a:stCxn id="69" idx="0"/>
              <a:endCxn id="104" idx="2"/>
            </p:cNvCxnSpPr>
            <p:nvPr/>
          </p:nvCxnSpPr>
          <p:spPr>
            <a:xfrm flipH="1" flipV="1" rot="5400000">
              <a:off x="3407040" y="-75240"/>
              <a:ext cx="199440" cy="2136240"/>
            </a:xfrm>
            <a:prstGeom prst="bentConnector5">
              <a:avLst>
                <a:gd name="adj1" fmla="val 116636"/>
                <a:gd name="adj2" fmla="val 46435"/>
                <a:gd name="adj3" fmla="val -1627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2058"/>
            <p:cNvCxnSpPr>
              <a:stCxn id="50" idx="0"/>
              <a:endCxn id="104" idx="2"/>
            </p:cNvCxnSpPr>
            <p:nvPr/>
          </p:nvCxnSpPr>
          <p:spPr>
            <a:xfrm flipH="1" flipV="1" rot="5400000">
              <a:off x="2652840" y="-829440"/>
              <a:ext cx="199440" cy="3644640"/>
            </a:xfrm>
            <a:prstGeom prst="bentConnector5">
              <a:avLst>
                <a:gd name="adj1" fmla="val 116636"/>
                <a:gd name="adj2" fmla="val 47910"/>
                <a:gd name="adj3" fmla="val -1627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4" name="_s2054"/>
            <p:cNvSpPr/>
            <p:nvPr/>
          </p:nvSpPr>
          <p:spPr>
            <a:xfrm>
              <a:off x="4143960" y="495360"/>
              <a:ext cx="862200" cy="397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00" spc="-1" strike="noStrike">
                  <a:solidFill>
                    <a:srgbClr val="000066"/>
                  </a:solidFill>
                  <a:latin typeface="Arial"/>
                </a:rPr>
                <a:t>قال رسول الله صلى الله عليه وسلّم: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00" spc="-1" strike="noStrike">
                  <a:solidFill>
                    <a:srgbClr val="000066"/>
                  </a:solidFill>
                  <a:latin typeface="Arial"/>
                </a:rPr>
                <a:t>”أقرأني جبريل على حَرف، فلم أزل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00" spc="-1" strike="noStrike">
                  <a:solidFill>
                    <a:srgbClr val="000066"/>
                  </a:solidFill>
                  <a:latin typeface="Arial"/>
                </a:rPr>
                <a:t> أستزيده حتى انتهى إلى سبعة أحرف“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00" spc="-1" strike="noStrike">
                  <a:solidFill>
                    <a:srgbClr val="000066"/>
                  </a:solidFill>
                  <a:latin typeface="Arial"/>
                </a:rPr>
                <a:t> رواه البخاري عن ابن عبّاس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00" spc="-1" strike="noStrike">
                  <a:solidFill>
                    <a:srgbClr val="000066"/>
                  </a:solidFill>
                  <a:latin typeface="Arial"/>
                </a:rPr>
                <a:t>رضي الله عنه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2055"/>
            <p:cNvSpPr/>
            <p:nvPr/>
          </p:nvSpPr>
          <p:spPr>
            <a:xfrm>
              <a:off x="499680" y="1092240"/>
              <a:ext cx="862200" cy="397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علي بن أبي طالب رضي الله عنه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2056"/>
            <p:cNvSpPr/>
            <p:nvPr/>
          </p:nvSpPr>
          <p:spPr>
            <a:xfrm>
              <a:off x="2008080" y="1092240"/>
              <a:ext cx="862200" cy="397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عبد الله بن مسعود رضي الله عنه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2057"/>
            <p:cNvSpPr/>
            <p:nvPr/>
          </p:nvSpPr>
          <p:spPr>
            <a:xfrm>
              <a:off x="4017960" y="1092240"/>
              <a:ext cx="862200" cy="397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أبي الدرداء رضي الله عنه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2061"/>
            <p:cNvSpPr/>
            <p:nvPr/>
          </p:nvSpPr>
          <p:spPr>
            <a:xfrm>
              <a:off x="5526360" y="1092240"/>
              <a:ext cx="862200" cy="397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أُبي بن كعب رضي الله عنه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2063"/>
            <p:cNvSpPr/>
            <p:nvPr/>
          </p:nvSpPr>
          <p:spPr>
            <a:xfrm>
              <a:off x="7788960" y="1092240"/>
              <a:ext cx="861120" cy="397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أنس بن مالك رضي الله عنه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2065"/>
            <p:cNvSpPr/>
            <p:nvPr/>
          </p:nvSpPr>
          <p:spPr>
            <a:xfrm>
              <a:off x="7035480" y="1689120"/>
              <a:ext cx="861120" cy="397800"/>
            </a:xfrm>
            <a:prstGeom prst="roundRect">
              <a:avLst>
                <a:gd name="adj" fmla="val 16667"/>
              </a:avLst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أبو عمرو بن العلاء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أحد القُرّاء السبع وأكثرهم شيوخاً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2067"/>
            <p:cNvSpPr/>
            <p:nvPr/>
          </p:nvSpPr>
          <p:spPr>
            <a:xfrm>
              <a:off x="8542440" y="1689120"/>
              <a:ext cx="861120" cy="396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الزهري (تابعي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2069"/>
            <p:cNvSpPr/>
            <p:nvPr/>
          </p:nvSpPr>
          <p:spPr>
            <a:xfrm>
              <a:off x="8542440" y="2286000"/>
              <a:ext cx="861120" cy="396360"/>
            </a:xfrm>
            <a:prstGeom prst="roundRect">
              <a:avLst>
                <a:gd name="adj" fmla="val 16667"/>
              </a:avLst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نافع بن أبي نعيم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(إمام أهل المدينة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2097"/>
            <p:cNvSpPr/>
            <p:nvPr/>
          </p:nvSpPr>
          <p:spPr>
            <a:xfrm>
              <a:off x="8039520" y="2882880"/>
              <a:ext cx="861120" cy="39636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ربيبه قالون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قارئ بالمدينة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2101"/>
            <p:cNvSpPr/>
            <p:nvPr/>
          </p:nvSpPr>
          <p:spPr>
            <a:xfrm>
              <a:off x="9045000" y="2882880"/>
              <a:ext cx="861120" cy="39636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تلميذه ورش شيخ القُرّاء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لمحققين انتهت إليه رئاسة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 الإقراء بالديار المصرية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2103"/>
            <p:cNvSpPr/>
            <p:nvPr/>
          </p:nvSpPr>
          <p:spPr>
            <a:xfrm>
              <a:off x="6532560" y="2286000"/>
              <a:ext cx="861120" cy="39636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السوسي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(عن يحيى اليزيدي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مُقرئ ضابط محرّر ثِقة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2107"/>
            <p:cNvSpPr/>
            <p:nvPr/>
          </p:nvSpPr>
          <p:spPr>
            <a:xfrm>
              <a:off x="7537680" y="2286000"/>
              <a:ext cx="861120" cy="39636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حفص الدوري (عن يحيى اليزيدي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إمام القُرّاء ويخ الناس في زمانه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ثقة ضابط أول من جمع القراءات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وقرأ بسائر القراءات السبعة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2109"/>
            <p:cNvSpPr/>
            <p:nvPr/>
          </p:nvSpPr>
          <p:spPr>
            <a:xfrm>
              <a:off x="5527440" y="1689120"/>
              <a:ext cx="861120" cy="396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عبد الله بن السائب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(صحابي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2115"/>
            <p:cNvSpPr/>
            <p:nvPr/>
          </p:nvSpPr>
          <p:spPr>
            <a:xfrm>
              <a:off x="5527440" y="2286000"/>
              <a:ext cx="861120" cy="396360"/>
            </a:xfrm>
            <a:prstGeom prst="roundRect">
              <a:avLst>
                <a:gd name="adj" fmla="val 16667"/>
              </a:avLst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عبد الله بن كثير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(إمام  أهل مكة في القراءة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2117"/>
            <p:cNvSpPr/>
            <p:nvPr/>
          </p:nvSpPr>
          <p:spPr>
            <a:xfrm>
              <a:off x="5024160" y="2882880"/>
              <a:ext cx="862200" cy="39636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البزّي (عن عكرمة عن قسط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والبزّي هو مُقرئ مكة ومؤذّن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المسجد الحرام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2119"/>
            <p:cNvSpPr/>
            <p:nvPr/>
          </p:nvSpPr>
          <p:spPr>
            <a:xfrm>
              <a:off x="6030360" y="2882880"/>
              <a:ext cx="861120" cy="39636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قنبل (عن القواس عن قسط)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وقنبل هو شيخ القُرّاء بالحجاز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2127"/>
            <p:cNvSpPr/>
            <p:nvPr/>
          </p:nvSpPr>
          <p:spPr>
            <a:xfrm>
              <a:off x="4017960" y="1689120"/>
              <a:ext cx="862200" cy="396360"/>
            </a:xfrm>
            <a:prstGeom prst="roundRect">
              <a:avLst>
                <a:gd name="adj" fmla="val 16667"/>
              </a:avLst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عبد الله بن عامر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إمام أهل الشام في القراءة وانتهت إليه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مشيخة الإقراء بها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2129"/>
            <p:cNvSpPr/>
            <p:nvPr/>
          </p:nvSpPr>
          <p:spPr>
            <a:xfrm>
              <a:off x="3515040" y="2286000"/>
              <a:ext cx="862200" cy="39636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ابن ذكوان (عن أيوب التميمي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عن يحيى الزماري)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راوي ثقة شيخ الإقراء بالشام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وإمام جامع دمشق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2139"/>
            <p:cNvSpPr/>
            <p:nvPr/>
          </p:nvSpPr>
          <p:spPr>
            <a:xfrm>
              <a:off x="4521240" y="2286000"/>
              <a:ext cx="862200" cy="39636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هشام (عن أيوب التميمي عن يحيى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الزماري) إمام أهل دمشق وخطيبهم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ومحدثهم ومقرئهم ومفتيهم رجعت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الامامة إليه وإلى أبن ذكوان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بعد وفاة أيوب التميمي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2141"/>
            <p:cNvSpPr/>
            <p:nvPr/>
          </p:nvSpPr>
          <p:spPr>
            <a:xfrm>
              <a:off x="1505880" y="1689120"/>
              <a:ext cx="861120" cy="396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زر بن حبيش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2143"/>
            <p:cNvSpPr/>
            <p:nvPr/>
          </p:nvSpPr>
          <p:spPr>
            <a:xfrm>
              <a:off x="2511000" y="1689120"/>
              <a:ext cx="861120" cy="396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علقمة بن قيس (تابعي) كان من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أحسن الناس صوتاً بالقرآن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2145"/>
            <p:cNvSpPr/>
            <p:nvPr/>
          </p:nvSpPr>
          <p:spPr>
            <a:xfrm>
              <a:off x="2512080" y="2286000"/>
              <a:ext cx="859320" cy="396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ابراهيم النخعي الكوفي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إمام مشهور كان صالحاً زاهداً وعالماً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2147"/>
            <p:cNvSpPr/>
            <p:nvPr/>
          </p:nvSpPr>
          <p:spPr>
            <a:xfrm>
              <a:off x="2512080" y="2882880"/>
              <a:ext cx="859320" cy="396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سليمان الأعمش الكوفي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لقي كبار التابعين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2149"/>
            <p:cNvSpPr/>
            <p:nvPr/>
          </p:nvSpPr>
          <p:spPr>
            <a:xfrm>
              <a:off x="2512080" y="3479760"/>
              <a:ext cx="859320" cy="396360"/>
            </a:xfrm>
            <a:prstGeom prst="roundRect">
              <a:avLst>
                <a:gd name="adj" fmla="val 16667"/>
              </a:avLst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00" spc="-1" strike="noStrike">
                  <a:solidFill>
                    <a:srgbClr val="000000"/>
                  </a:solidFill>
                  <a:latin typeface="Arial"/>
                </a:rPr>
                <a:t>حمزة بن حبيب بن عمار بن اسماعيل الزيات 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00" spc="-1" strike="noStrike">
                  <a:solidFill>
                    <a:srgbClr val="000000"/>
                  </a:solidFill>
                  <a:latin typeface="Arial"/>
                </a:rPr>
                <a:t>أزهد القُرّاء، الامام الحبر وأحد القُراء السبع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00" spc="-1" strike="noStrike">
                  <a:solidFill>
                    <a:srgbClr val="000000"/>
                  </a:solidFill>
                  <a:latin typeface="Arial"/>
                </a:rPr>
                <a:t>صارت الامامة إليه بعد عاصم والاعمش 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00" spc="-1" strike="noStrike">
                  <a:solidFill>
                    <a:srgbClr val="000000"/>
                  </a:solidFill>
                  <a:latin typeface="Arial"/>
                </a:rPr>
                <a:t>وكان كفيفاً وهو حجة ثقة قيما بكتاب الله 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00" spc="-1" strike="noStrike">
                  <a:solidFill>
                    <a:srgbClr val="000000"/>
                  </a:solidFill>
                  <a:latin typeface="Arial"/>
                </a:rPr>
                <a:t>بصيراً بالفرائض عارفاً بالعربية حافظاً للحديث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00" spc="-1" strike="noStrike">
                  <a:solidFill>
                    <a:srgbClr val="000000"/>
                  </a:solidFill>
                  <a:latin typeface="Arial"/>
                </a:rPr>
                <a:t>عابداً زاهداً خاشعاً ورِعاً قانتاً لله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2151"/>
            <p:cNvSpPr/>
            <p:nvPr/>
          </p:nvSpPr>
          <p:spPr>
            <a:xfrm>
              <a:off x="1508760" y="4075560"/>
              <a:ext cx="859320" cy="397800"/>
            </a:xfrm>
            <a:prstGeom prst="roundRect">
              <a:avLst>
                <a:gd name="adj" fmla="val 16667"/>
              </a:avLst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علي بن جمزة بن عبد الله الكسائي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انتهت إليه رئاسة الإقراء بالكوفة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بعد حمزة الزيات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كان إمام الناس بالقراءة في عهده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وأعلمهم بالنحو وأوحدهم بالقرآن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2153"/>
            <p:cNvSpPr/>
            <p:nvPr/>
          </p:nvSpPr>
          <p:spPr>
            <a:xfrm>
              <a:off x="2512080" y="4075560"/>
              <a:ext cx="859320" cy="39636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خَلَف بن هشام الأسدي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أحد القُراء العشرة روى عن سليم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بن عيسى عن حمزة حفظ القرآن ابن عشر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سنين كان ثقة كبيراً زاهداً عابداً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عالماً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2155"/>
            <p:cNvSpPr/>
            <p:nvPr/>
          </p:nvSpPr>
          <p:spPr>
            <a:xfrm>
              <a:off x="3515040" y="4075560"/>
              <a:ext cx="858960" cy="39636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خلاد بن خالد الشيباني الكوفي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إمام ف القراءة ثقة عارف محقق أستاذ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روى عن سليم بن عيسى بن  حمزة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2157"/>
            <p:cNvSpPr/>
            <p:nvPr/>
          </p:nvSpPr>
          <p:spPr>
            <a:xfrm>
              <a:off x="1006920" y="4672440"/>
              <a:ext cx="859320" cy="39636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الليث بن خالد البغددي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ثقة معروف ضابط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2159"/>
            <p:cNvSpPr/>
            <p:nvPr/>
          </p:nvSpPr>
          <p:spPr>
            <a:xfrm>
              <a:off x="2009880" y="4672440"/>
              <a:ext cx="859320" cy="39780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حفص الدوري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وهو راوي أبي عمرو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2161"/>
            <p:cNvSpPr/>
            <p:nvPr/>
          </p:nvSpPr>
          <p:spPr>
            <a:xfrm>
              <a:off x="500760" y="1689120"/>
              <a:ext cx="861120" cy="3978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أبي عبد الرحمن السلمي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مُقرئ الكوفة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9" name="_s1028"/>
            <p:cNvCxnSpPr/>
            <p:nvPr/>
          </p:nvCxnSpPr>
          <p:spPr>
            <a:xfrm flipH="1" flipV="1" rot="5400000">
              <a:off x="1855440" y="2135520"/>
              <a:ext cx="111240" cy="4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4" name="_s2170"/>
            <p:cNvSpPr/>
            <p:nvPr/>
          </p:nvSpPr>
          <p:spPr>
            <a:xfrm>
              <a:off x="501840" y="2286000"/>
              <a:ext cx="858960" cy="397800"/>
            </a:xfrm>
            <a:prstGeom prst="roundRect">
              <a:avLst>
                <a:gd name="adj" fmla="val 16667"/>
              </a:avLst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عاصم بن بهدلة أبي النجود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شيخ الإقراء بالكوفة وأحد القُراء السبعة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وهو الامام  الذي انتهت إليه رئاسة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القراءة بالكوفة بعد أبي عبد الرحمن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السلمي وكان أحسن الناس صوتاً بالقرآن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2172"/>
            <p:cNvSpPr/>
            <p:nvPr/>
          </p:nvSpPr>
          <p:spPr>
            <a:xfrm>
              <a:off x="0" y="2882880"/>
              <a:ext cx="858960" cy="39780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حفص بن سليمان الأسدي الكوفي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وكان ربيب عاصم ابن زوجته وهو ثقة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 ضابط للقراءة، كان أعلم الناس بقراءة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عاصم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2174"/>
            <p:cNvSpPr/>
            <p:nvPr/>
          </p:nvSpPr>
          <p:spPr>
            <a:xfrm>
              <a:off x="1002600" y="2882880"/>
              <a:ext cx="859320" cy="39492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شعبة بن عياش بن سالم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أبو بكر الأسدي الكوفي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عرض القرآن على عاصم ثلاث مرات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كان إماماً كبيراُ عالماً عاملاً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 flipH="1">
            <a:off x="944640" y="2200320"/>
            <a:ext cx="977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894800" y="5827680"/>
            <a:ext cx="1950840" cy="107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000000"/>
                </a:solidFill>
                <a:latin typeface="Tahoma"/>
                <a:cs typeface="Tahoma"/>
              </a:rPr>
              <a:t>شروط صحة هذه القراءات هي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000000"/>
                </a:solidFill>
                <a:latin typeface="Tahoma"/>
                <a:cs typeface="Tahoma"/>
              </a:rPr>
              <a:t>التوات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000000"/>
                </a:solidFill>
                <a:latin typeface="Tahoma"/>
                <a:cs typeface="Tahoma"/>
              </a:rPr>
              <a:t>موافقة الرسم العثماني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000000"/>
                </a:solidFill>
                <a:latin typeface="Tahoma"/>
                <a:cs typeface="Tahoma"/>
              </a:rPr>
              <a:t>أن توافق قواعد اللغة العربي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000000"/>
                </a:solidFill>
                <a:latin typeface="Tahoma"/>
                <a:cs typeface="Tahoma"/>
              </a:rPr>
              <a:t>وما خالف ذلك فهو شاذّ ولا يجوز الصلاة به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-1022400" y="5776920"/>
            <a:ext cx="2879280" cy="1054080"/>
            <a:chOff x="-1022400" y="5776920"/>
            <a:chExt cx="2879280" cy="1054080"/>
          </a:xfrm>
        </p:grpSpPr>
        <p:sp>
          <p:nvSpPr>
            <p:cNvPr id="113" name=""/>
            <p:cNvSpPr/>
            <p:nvPr/>
          </p:nvSpPr>
          <p:spPr>
            <a:xfrm>
              <a:off x="-468360" y="5840280"/>
              <a:ext cx="228636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080" y="5866920"/>
              <a:ext cx="277560" cy="202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41160" y="6099480"/>
              <a:ext cx="277560" cy="202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1160" y="6326640"/>
              <a:ext cx="277560" cy="20232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1160" y="6579360"/>
              <a:ext cx="277560" cy="2023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-400680" y="5872320"/>
              <a:ext cx="190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r" rtl="1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الصحابة رضي الله عنهم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-988200" y="6104160"/>
              <a:ext cx="2493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r" rtl="1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التابعين وأتباعهم رضي الله عنهم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-813600" y="6332400"/>
              <a:ext cx="2318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r" rtl="1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القُرّاء السبع رضي الله عنهم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-1022400" y="6583680"/>
              <a:ext cx="2527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r" rtl="1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رواة القُرّاء السبع رضي الله عنهم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600" y="5776920"/>
              <a:ext cx="1808280" cy="1054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3297240" y="0"/>
            <a:ext cx="2716200" cy="405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00" spc="-1" strike="noStrike">
                <a:solidFill>
                  <a:srgbClr val="000000"/>
                </a:solidFill>
                <a:latin typeface="Arial"/>
              </a:rPr>
              <a:t>شجرة تواتر القراءات السبع عن رسول الله صلى الله عليه وسلّم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12:42:25Z</dcterms:created>
  <dc:creator>Dr. Issa H. Alansari</dc:creator>
  <dc:description/>
  <dc:language>en-US</dc:language>
  <cp:lastModifiedBy>Dr. Issa H. Alansari</cp:lastModifiedBy>
  <dcterms:modified xsi:type="dcterms:W3CDTF">2004-07-20T17:40:53Z</dcterms:modified>
  <cp:revision>13</cp:revision>
  <dc:subject/>
  <dc:title>Slide 1</dc:title>
</cp:coreProperties>
</file>