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756-22F2-4B0A-BAA3-D71C12C6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4CC-E1FF-4ECF-8F0B-E6A69AC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BE1-3B67-433B-847A-84016704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19F1-A786-47C5-863E-9EC7DD5C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3700-1F6C-4979-8206-61D9C59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B33-C98D-4C2D-A80C-1C553234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591-876B-479B-BDC5-45A0684C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2D2-D5EA-40A5-B7E6-125BB2F9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761-101C-4307-85B5-6C866481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A6B-CFF4-4449-B3A9-29A3B1B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CDD-6E07-4B0D-9593-111A341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AA9-073B-41C1-80FF-9D2DDA1B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68D-C09F-479A-9FFD-F32BF658CA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5360"/>
            <a:ext cx="9906120" cy="4574880"/>
            <a:chOff x="0" y="495360"/>
            <a:chExt cx="9906120" cy="4574880"/>
          </a:xfrm>
        </p:grpSpPr>
        <p:cxnSp>
          <p:nvCxnSpPr>
            <p:cNvPr id="42" name="_s2175"/>
            <p:cNvCxnSpPr>
              <a:stCxn id="43" idx="0"/>
              <a:endCxn id="44" idx="2"/>
            </p:cNvCxnSpPr>
            <p:nvPr/>
          </p:nvCxnSpPr>
          <p:spPr>
            <a:xfrm flipV="1" rot="16200000">
              <a:off x="1082160" y="2532600"/>
              <a:ext cx="199440" cy="5011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173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580680" y="253224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171"/>
            <p:cNvCxnSpPr>
              <a:stCxn id="44" idx="0"/>
              <a:endCxn id="48" idx="2"/>
            </p:cNvCxnSpPr>
            <p:nvPr/>
          </p:nvCxnSpPr>
          <p:spPr>
            <a:xfrm rot="16200000">
              <a:off x="831960" y="218628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162"/>
            <p:cNvCxnSpPr>
              <a:stCxn id="48" idx="0"/>
              <a:endCxn id="50" idx="2"/>
            </p:cNvCxnSpPr>
            <p:nvPr/>
          </p:nvCxnSpPr>
          <p:spPr>
            <a:xfrm flipV="1" rot="16200000">
              <a:off x="83160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160"/>
            <p:cNvCxnSpPr>
              <a:stCxn id="52" idx="0"/>
              <a:endCxn id="53" idx="2"/>
            </p:cNvCxnSpPr>
            <p:nvPr/>
          </p:nvCxnSpPr>
          <p:spPr>
            <a:xfrm flipV="1" rot="16200000">
              <a:off x="2089440" y="4322160"/>
              <a:ext cx="199440" cy="5014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158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1587600" y="432180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156"/>
            <p:cNvCxnSpPr>
              <a:stCxn id="57" idx="0"/>
              <a:endCxn id="58" idx="2"/>
            </p:cNvCxnSpPr>
            <p:nvPr/>
          </p:nvCxnSpPr>
          <p:spPr>
            <a:xfrm flipV="1" rot="16200000">
              <a:off x="3343320" y="3474360"/>
              <a:ext cx="199800" cy="1003320"/>
            </a:xfrm>
            <a:prstGeom prst="bentConnector5">
              <a:avLst>
                <a:gd name="adj1" fmla="val 414981"/>
                <a:gd name="adj2" fmla="val 165936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2154"/>
            <p:cNvCxnSpPr>
              <a:stCxn id="60" idx="0"/>
              <a:endCxn id="58" idx="2"/>
            </p:cNvCxnSpPr>
            <p:nvPr/>
          </p:nvCxnSpPr>
          <p:spPr>
            <a:xfrm rot="16200000">
              <a:off x="2841840" y="3975840"/>
              <a:ext cx="1998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152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2340000" y="3474360"/>
              <a:ext cx="199800" cy="1003680"/>
            </a:xfrm>
            <a:prstGeom prst="bentConnector5">
              <a:avLst>
                <a:gd name="adj1" fmla="val 414981"/>
                <a:gd name="adj2" fmla="val 165913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150"/>
            <p:cNvCxnSpPr>
              <a:stCxn id="58" idx="0"/>
              <a:endCxn id="63" idx="2"/>
            </p:cNvCxnSpPr>
            <p:nvPr/>
          </p:nvCxnSpPr>
          <p:spPr>
            <a:xfrm rot="16200000">
              <a:off x="2841480" y="337932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148"/>
            <p:cNvCxnSpPr>
              <a:stCxn id="63" idx="0"/>
              <a:endCxn id="65" idx="2"/>
            </p:cNvCxnSpPr>
            <p:nvPr/>
          </p:nvCxnSpPr>
          <p:spPr>
            <a:xfrm rot="16200000">
              <a:off x="2841480" y="278244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2146"/>
            <p:cNvCxnSpPr>
              <a:stCxn id="65" idx="0"/>
              <a:endCxn id="67" idx="2"/>
            </p:cNvCxnSpPr>
            <p:nvPr/>
          </p:nvCxnSpPr>
          <p:spPr>
            <a:xfrm rot="16200000">
              <a:off x="284148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144"/>
            <p:cNvCxnSpPr>
              <a:stCxn id="67" idx="0"/>
              <a:endCxn id="69" idx="2"/>
            </p:cNvCxnSpPr>
            <p:nvPr/>
          </p:nvCxnSpPr>
          <p:spPr>
            <a:xfrm flipV="1" rot="16200000">
              <a:off x="259092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2142"/>
            <p:cNvCxnSpPr>
              <a:stCxn id="71" idx="0"/>
              <a:endCxn id="69" idx="2"/>
            </p:cNvCxnSpPr>
            <p:nvPr/>
          </p:nvCxnSpPr>
          <p:spPr>
            <a:xfrm flipH="1" flipV="1" rot="5400000">
              <a:off x="208800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140"/>
            <p:cNvCxnSpPr>
              <a:stCxn id="73" idx="0"/>
              <a:endCxn id="74" idx="2"/>
            </p:cNvCxnSpPr>
            <p:nvPr/>
          </p:nvCxnSpPr>
          <p:spPr>
            <a:xfrm flipV="1" rot="16200000">
              <a:off x="4600440" y="1933920"/>
              <a:ext cx="200880" cy="50364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130"/>
            <p:cNvCxnSpPr>
              <a:stCxn id="76" idx="0"/>
              <a:endCxn id="74" idx="2"/>
            </p:cNvCxnSpPr>
            <p:nvPr/>
          </p:nvCxnSpPr>
          <p:spPr>
            <a:xfrm flipH="1" flipV="1" rot="5400000">
              <a:off x="4096800" y="193428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2128"/>
            <p:cNvCxnSpPr>
              <a:stCxn id="74" idx="0"/>
              <a:endCxn id="78" idx="2"/>
            </p:cNvCxnSpPr>
            <p:nvPr/>
          </p:nvCxnSpPr>
          <p:spPr>
            <a:xfrm rot="16200000">
              <a:off x="4349520" y="158940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120"/>
            <p:cNvCxnSpPr>
              <a:stCxn id="80" idx="0"/>
              <a:endCxn id="81" idx="2"/>
            </p:cNvCxnSpPr>
            <p:nvPr/>
          </p:nvCxnSpPr>
          <p:spPr>
            <a:xfrm flipV="1" rot="16200000">
              <a:off x="6109200" y="253080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118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5605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116"/>
            <p:cNvCxnSpPr>
              <a:stCxn id="81" idx="0"/>
              <a:endCxn id="85" idx="2"/>
            </p:cNvCxnSpPr>
            <p:nvPr/>
          </p:nvCxnSpPr>
          <p:spPr>
            <a:xfrm rot="16200000">
              <a:off x="5857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2110"/>
            <p:cNvCxnSpPr>
              <a:stCxn id="85" idx="0"/>
              <a:endCxn id="87" idx="2"/>
            </p:cNvCxnSpPr>
            <p:nvPr/>
          </p:nvCxnSpPr>
          <p:spPr>
            <a:xfrm flipV="1" rot="16200000">
              <a:off x="585828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2108"/>
            <p:cNvCxnSpPr>
              <a:stCxn id="89" idx="0"/>
              <a:endCxn id="90" idx="2"/>
            </p:cNvCxnSpPr>
            <p:nvPr/>
          </p:nvCxnSpPr>
          <p:spPr>
            <a:xfrm flipV="1" rot="16200000">
              <a:off x="7617600" y="1935000"/>
              <a:ext cx="199440" cy="5025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104"/>
            <p:cNvCxnSpPr>
              <a:stCxn id="92" idx="0"/>
              <a:endCxn id="90" idx="2"/>
            </p:cNvCxnSpPr>
            <p:nvPr/>
          </p:nvCxnSpPr>
          <p:spPr>
            <a:xfrm flipH="1" flipV="1" rot="5400000">
              <a:off x="7114680" y="1935000"/>
              <a:ext cx="199440" cy="5032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102"/>
            <p:cNvCxnSpPr>
              <a:stCxn id="94" idx="0"/>
              <a:endCxn id="95" idx="2"/>
            </p:cNvCxnSpPr>
            <p:nvPr/>
          </p:nvCxnSpPr>
          <p:spPr>
            <a:xfrm flipV="1" rot="16200000">
              <a:off x="9124200" y="2531160"/>
              <a:ext cx="200880" cy="50292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98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8620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070"/>
            <p:cNvCxnSpPr>
              <a:stCxn id="95" idx="0"/>
              <a:endCxn id="99" idx="2"/>
            </p:cNvCxnSpPr>
            <p:nvPr/>
          </p:nvCxnSpPr>
          <p:spPr>
            <a:xfrm rot="16200000">
              <a:off x="8872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068"/>
            <p:cNvCxnSpPr>
              <a:stCxn id="99" idx="0"/>
              <a:endCxn id="101" idx="2"/>
            </p:cNvCxnSpPr>
            <p:nvPr/>
          </p:nvCxnSpPr>
          <p:spPr>
            <a:xfrm flipV="1" rot="16200000">
              <a:off x="8496720" y="1212480"/>
              <a:ext cx="199440" cy="753840"/>
            </a:xfrm>
            <a:prstGeom prst="bentConnector5">
              <a:avLst>
                <a:gd name="adj1" fmla="val 116636"/>
                <a:gd name="adj2" fmla="val -87912"/>
                <a:gd name="adj3" fmla="val -3153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66"/>
            <p:cNvCxnSpPr>
              <a:stCxn id="90" idx="0"/>
              <a:endCxn id="101" idx="2"/>
            </p:cNvCxnSpPr>
            <p:nvPr/>
          </p:nvCxnSpPr>
          <p:spPr>
            <a:xfrm flipH="1" flipV="1" rot="5400000">
              <a:off x="7742880" y="1212840"/>
              <a:ext cx="199440" cy="753840"/>
            </a:xfrm>
            <a:prstGeom prst="bentConnector5">
              <a:avLst>
                <a:gd name="adj1" fmla="val 116455"/>
                <a:gd name="adj2" fmla="val -87864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64"/>
            <p:cNvCxnSpPr>
              <a:stCxn id="101" idx="0"/>
              <a:endCxn id="104" idx="2"/>
            </p:cNvCxnSpPr>
            <p:nvPr/>
          </p:nvCxnSpPr>
          <p:spPr>
            <a:xfrm flipV="1" rot="16200000">
              <a:off x="6297840" y="-829800"/>
              <a:ext cx="199440" cy="3645000"/>
            </a:xfrm>
            <a:prstGeom prst="bentConnector5">
              <a:avLst>
                <a:gd name="adj1" fmla="val 116636"/>
                <a:gd name="adj2" fmla="val 48093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62"/>
            <p:cNvCxnSpPr>
              <a:stCxn id="87" idx="0"/>
              <a:endCxn id="104" idx="2"/>
            </p:cNvCxnSpPr>
            <p:nvPr/>
          </p:nvCxnSpPr>
          <p:spPr>
            <a:xfrm flipV="1" rot="16200000">
              <a:off x="5166720" y="301320"/>
              <a:ext cx="199440" cy="1382760"/>
            </a:xfrm>
            <a:prstGeom prst="bentConnector5">
              <a:avLst>
                <a:gd name="adj1" fmla="val 116636"/>
                <a:gd name="adj2" fmla="val -47942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60"/>
            <p:cNvCxnSpPr>
              <a:stCxn id="78" idx="0"/>
              <a:endCxn id="104" idx="2"/>
            </p:cNvCxnSpPr>
            <p:nvPr/>
          </p:nvCxnSpPr>
          <p:spPr>
            <a:xfrm flipH="1" flipV="1" rot="5400000">
              <a:off x="4412160" y="929520"/>
              <a:ext cx="199440" cy="1263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059"/>
            <p:cNvCxnSpPr>
              <a:stCxn id="69" idx="0"/>
              <a:endCxn id="104" idx="2"/>
            </p:cNvCxnSpPr>
            <p:nvPr/>
          </p:nvCxnSpPr>
          <p:spPr>
            <a:xfrm flipH="1" flipV="1" rot="5400000">
              <a:off x="3407040" y="-75240"/>
              <a:ext cx="199440" cy="2136240"/>
            </a:xfrm>
            <a:prstGeom prst="bentConnector5">
              <a:avLst>
                <a:gd name="adj1" fmla="val 116636"/>
                <a:gd name="adj2" fmla="val 46435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8"/>
            <p:cNvCxnSpPr>
              <a:stCxn id="50" idx="0"/>
              <a:endCxn id="104" idx="2"/>
            </p:cNvCxnSpPr>
            <p:nvPr/>
          </p:nvCxnSpPr>
          <p:spPr>
            <a:xfrm flipH="1" flipV="1" rot="5400000">
              <a:off x="2652840" y="-829440"/>
              <a:ext cx="199440" cy="3644640"/>
            </a:xfrm>
            <a:prstGeom prst="bentConnector5">
              <a:avLst>
                <a:gd name="adj1" fmla="val 116636"/>
                <a:gd name="adj2" fmla="val 47910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2054"/>
            <p:cNvSpPr/>
            <p:nvPr/>
          </p:nvSpPr>
          <p:spPr>
            <a:xfrm>
              <a:off x="4143960" y="495360"/>
              <a:ext cx="862200" cy="39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قال رسول الله صلى الله عليه وسلّم: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”أقرأني جبريل على حَرف، فلم أزل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أستزيده حتى انتهى إلى سبعة أحرف“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رواه البخاري عن ابن عبّا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رضي الله عنه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4996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أبي طال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6"/>
            <p:cNvSpPr/>
            <p:nvPr/>
          </p:nvSpPr>
          <p:spPr>
            <a:xfrm>
              <a:off x="20080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مسعود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7"/>
            <p:cNvSpPr/>
            <p:nvPr/>
          </p:nvSpPr>
          <p:spPr>
            <a:xfrm>
              <a:off x="40179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الدرداء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55263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ُبي بن كع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3"/>
            <p:cNvSpPr/>
            <p:nvPr/>
          </p:nvSpPr>
          <p:spPr>
            <a:xfrm>
              <a:off x="7788960" y="109224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نس بن مالك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703548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عمرو بن العلاء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ّاء السبع وأكثرهم شيوخ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67"/>
            <p:cNvSpPr/>
            <p:nvPr/>
          </p:nvSpPr>
          <p:spPr>
            <a:xfrm>
              <a:off x="8542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هري (تابع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9"/>
            <p:cNvSpPr/>
            <p:nvPr/>
          </p:nvSpPr>
          <p:spPr>
            <a:xfrm>
              <a:off x="8542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نافع بن أبي نعي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أهل المدين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97"/>
            <p:cNvSpPr/>
            <p:nvPr/>
          </p:nvSpPr>
          <p:spPr>
            <a:xfrm>
              <a:off x="803952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بيبه قالو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ارئ بالمدين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101"/>
            <p:cNvSpPr/>
            <p:nvPr/>
          </p:nvSpPr>
          <p:spPr>
            <a:xfrm>
              <a:off x="904500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تلميذه ورش شيخ القُرّاء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محققين انتهت إليه رئاس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الإقراء بالديار المصري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103"/>
            <p:cNvSpPr/>
            <p:nvPr/>
          </p:nvSpPr>
          <p:spPr>
            <a:xfrm>
              <a:off x="653256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وس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ضابط محرّر ثِ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107"/>
            <p:cNvSpPr/>
            <p:nvPr/>
          </p:nvSpPr>
          <p:spPr>
            <a:xfrm>
              <a:off x="753768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 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القُرّاء ويخ الناس في زما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ضابط أول من جمع القراء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رأ بسائر القراءات السبع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109"/>
            <p:cNvSpPr/>
            <p:nvPr/>
          </p:nvSpPr>
          <p:spPr>
            <a:xfrm>
              <a:off x="5527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السائب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صحاب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115"/>
            <p:cNvSpPr/>
            <p:nvPr/>
          </p:nvSpPr>
          <p:spPr>
            <a:xfrm>
              <a:off x="5527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كثي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 أهل مكة في القراء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117"/>
            <p:cNvSpPr/>
            <p:nvPr/>
          </p:nvSpPr>
          <p:spPr>
            <a:xfrm>
              <a:off x="5024160" y="288288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بزّي (عن عكرمة عن قسط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البزّي هو مُقرئ مكة ومؤذّ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مسجد الحر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119"/>
            <p:cNvSpPr/>
            <p:nvPr/>
          </p:nvSpPr>
          <p:spPr>
            <a:xfrm>
              <a:off x="603036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نبل (عن القواس عن قسط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نبل هو شيخ القُرّاء بالحجاز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127"/>
            <p:cNvSpPr/>
            <p:nvPr/>
          </p:nvSpPr>
          <p:spPr>
            <a:xfrm>
              <a:off x="4017960" y="168912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عام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أهل الشام في القراءة وانتهت إلي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شيخة الإقراء بها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129"/>
            <p:cNvSpPr/>
            <p:nvPr/>
          </p:nvSpPr>
          <p:spPr>
            <a:xfrm>
              <a:off x="35150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ن ذكوان (عن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ن يحيى الزماري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اوي ثقة شيخ الإقراء بالش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إمام جامع دمشق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139"/>
            <p:cNvSpPr/>
            <p:nvPr/>
          </p:nvSpPr>
          <p:spPr>
            <a:xfrm>
              <a:off x="45212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هشام (عن أيوب التميمي عن يحيى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ماري) إمام أهل دمشق وخطيبه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محدثهم ومقرئهم ومفتيهم رجع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امامة إليه وإلى أبن ذكوا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وفاة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141"/>
            <p:cNvSpPr/>
            <p:nvPr/>
          </p:nvSpPr>
          <p:spPr>
            <a:xfrm>
              <a:off x="150588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زر بن حبيش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143"/>
            <p:cNvSpPr/>
            <p:nvPr/>
          </p:nvSpPr>
          <p:spPr>
            <a:xfrm>
              <a:off x="251100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قمة بن قيس (تابعي) كان 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145"/>
            <p:cNvSpPr/>
            <p:nvPr/>
          </p:nvSpPr>
          <p:spPr>
            <a:xfrm>
              <a:off x="2512080" y="228600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راهيم النخع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مشهور كان صالحاً زاهداً و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147"/>
            <p:cNvSpPr/>
            <p:nvPr/>
          </p:nvSpPr>
          <p:spPr>
            <a:xfrm>
              <a:off x="2512080" y="288288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ليمان الأعمش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قي كبار التابعي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149"/>
            <p:cNvSpPr/>
            <p:nvPr/>
          </p:nvSpPr>
          <p:spPr>
            <a:xfrm>
              <a:off x="2512080" y="34797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حمزة بن حبيب بن عمار بن اسماعيل الزيات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أزهد القُرّاء، الامام الحبر وأحد القُراء السبع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صارت الامامة إليه بعد عاصم والاعمش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وكان كفيفاً وهو حجة ثقة قيما بكتاب الله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بصيراً بالفرائض عارفاً بالعربية حافظاً للحديث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عابداً زاهداً خاشعاً ورِعاً قانتاً لله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151"/>
            <p:cNvSpPr/>
            <p:nvPr/>
          </p:nvSpPr>
          <p:spPr>
            <a:xfrm>
              <a:off x="1508760" y="407556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جمزة بن عبد الله الكسائ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نتهت إليه رئاسة الإقراء بالكوف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حمزة الزيات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 الناس بالقراءة في عهده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أعلمهم بالنحو وأوحدهم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153"/>
            <p:cNvSpPr/>
            <p:nvPr/>
          </p:nvSpPr>
          <p:spPr>
            <a:xfrm>
              <a:off x="2512080" y="40755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َلَف بن هشام الأس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اء العشرة روى عن سليم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ن عيسى عن حمزة حفظ القرآن ابن عشر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نين كان ثقة كبيراً زاهداً عابداً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155"/>
            <p:cNvSpPr/>
            <p:nvPr/>
          </p:nvSpPr>
          <p:spPr>
            <a:xfrm>
              <a:off x="3515040" y="4075560"/>
              <a:ext cx="85896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لاد بن خالد الشيبان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ف القراءة ثقة عارف محقق أستاذ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وى عن سليم بن عيسى بن  حمز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157"/>
            <p:cNvSpPr/>
            <p:nvPr/>
          </p:nvSpPr>
          <p:spPr>
            <a:xfrm>
              <a:off x="1006920" y="467244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ليث بن خالد البغد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معروف ضابط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159"/>
            <p:cNvSpPr/>
            <p:nvPr/>
          </p:nvSpPr>
          <p:spPr>
            <a:xfrm>
              <a:off x="2009880" y="467244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راوي أبي عمرو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161"/>
            <p:cNvSpPr/>
            <p:nvPr/>
          </p:nvSpPr>
          <p:spPr>
            <a:xfrm>
              <a:off x="50076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عبد الرحمن السل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الكوف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_s1028"/>
            <p:cNvCxnSpPr/>
            <p:nvPr/>
          </p:nvCxnSpPr>
          <p:spPr>
            <a:xfrm flipH="1" flipV="1" rot="5400000">
              <a:off x="1855440" y="2135520"/>
              <a:ext cx="1112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2170"/>
            <p:cNvSpPr/>
            <p:nvPr/>
          </p:nvSpPr>
          <p:spPr>
            <a:xfrm>
              <a:off x="501840" y="228600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 بن بهدلة أبي النجود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يخ الإقراء بالكوفة وأحد القُراء السبع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الامام  الذي انتهت إليه رئاس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قراءة بالكوفة بعد أبي عبد الرح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لمي وكان 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172"/>
            <p:cNvSpPr/>
            <p:nvPr/>
          </p:nvSpPr>
          <p:spPr>
            <a:xfrm>
              <a:off x="0" y="288288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بن سليمان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كان ربيب عاصم ابن زوجته وهو ث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ضابط للقراءة، كان أعلم الناس بقراء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174"/>
            <p:cNvSpPr/>
            <p:nvPr/>
          </p:nvSpPr>
          <p:spPr>
            <a:xfrm>
              <a:off x="1002600" y="2882880"/>
              <a:ext cx="859320" cy="394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عبة بن عياش بن سال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بكر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رض القرآن على عاصم ثلاث مر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اً كبيراُ عالماً عامل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>
            <a:off x="944640" y="2200320"/>
            <a:ext cx="97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94800" y="5827680"/>
            <a:ext cx="1950840" cy="10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شروط صحة هذه القراءات هي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التوات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موافقة الرسم العثمان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أن توافق قواعد اللغة العربي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وما خالف ذلك فهو شاذّ ولا يجوز الصلاة به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1022400" y="5776920"/>
            <a:ext cx="2879280" cy="1054080"/>
            <a:chOff x="-1022400" y="5776920"/>
            <a:chExt cx="2879280" cy="1054080"/>
          </a:xfrm>
        </p:grpSpPr>
        <p:sp>
          <p:nvSpPr>
            <p:cNvPr id="113" name=""/>
            <p:cNvSpPr/>
            <p:nvPr/>
          </p:nvSpPr>
          <p:spPr>
            <a:xfrm>
              <a:off x="-468360" y="5840280"/>
              <a:ext cx="2286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080" y="5866920"/>
              <a:ext cx="277560" cy="202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1160" y="6099480"/>
              <a:ext cx="277560" cy="202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1160" y="6326640"/>
              <a:ext cx="277560" cy="202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1160" y="6579360"/>
              <a:ext cx="277560" cy="202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400680" y="5872320"/>
              <a:ext cx="190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صحابة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988200" y="6104160"/>
              <a:ext cx="24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تابعين وأتباعهم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813600" y="6332400"/>
              <a:ext cx="231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1022400" y="6583680"/>
              <a:ext cx="252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رواة 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00" y="5776920"/>
              <a:ext cx="1808280" cy="1054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97240" y="0"/>
            <a:ext cx="2716200" cy="40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شجرة تواتر القراءات السبع عن رسول الله صلى الله عليه وسلّ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2:42:25Z</dcterms:created>
  <dc:creator>Dr. Issa H. Alansari</dc:creator>
  <dc:description/>
  <dc:language>en-US</dc:language>
  <cp:lastModifiedBy>Dr. Issa H. Alansari</cp:lastModifiedBy>
  <dcterms:modified xsi:type="dcterms:W3CDTF">2004-07-20T17:40:53Z</dcterms:modified>
  <cp:revision>13</cp:revision>
  <dc:subject/>
  <dc:title>Slide 1</dc:title>
</cp:coreProperties>
</file>