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1FFF-CDF2-40E6-AA2C-5C546AF4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3A94-E8B5-48CD-92C4-5DDB3EAE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BA2-B76F-431A-9FB0-A6E741011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0C2D-F3AE-4F45-A2BA-A4F7B05DF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2B2-4088-4EB6-8FEC-8955AB59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599-601F-447A-BBBF-9FF088A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6B50-1462-463A-9159-64FFC041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9B63-ADED-4FB4-A813-01864249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259D-DBE6-4865-BE45-141AD615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DBE-21A0-4E75-91FD-E1FBA9DC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37A-16B8-4114-B503-222A576D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A86-4A3C-4C30-9B9F-0D882763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872-5F83-4A92-A7F1-E503757F0DC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495360"/>
            <a:ext cx="9906120" cy="4574880"/>
            <a:chOff x="0" y="495360"/>
            <a:chExt cx="9906120" cy="4574880"/>
          </a:xfrm>
        </p:grpSpPr>
        <p:cxnSp>
          <p:nvCxnSpPr>
            <p:cNvPr id="42" name="_s2175"/>
            <p:cNvCxnSpPr>
              <a:stCxn id="43" idx="0"/>
              <a:endCxn id="44" idx="2"/>
            </p:cNvCxnSpPr>
            <p:nvPr/>
          </p:nvCxnSpPr>
          <p:spPr>
            <a:xfrm flipV="1" rot="16200000">
              <a:off x="1082160" y="2532600"/>
              <a:ext cx="199440" cy="5011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2173"/>
            <p:cNvCxnSpPr>
              <a:stCxn id="46" idx="0"/>
              <a:endCxn id="44" idx="2"/>
            </p:cNvCxnSpPr>
            <p:nvPr/>
          </p:nvCxnSpPr>
          <p:spPr>
            <a:xfrm flipH="1" flipV="1" rot="5400000">
              <a:off x="580680" y="253224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2171"/>
            <p:cNvCxnSpPr>
              <a:stCxn id="44" idx="0"/>
              <a:endCxn id="48" idx="2"/>
            </p:cNvCxnSpPr>
            <p:nvPr/>
          </p:nvCxnSpPr>
          <p:spPr>
            <a:xfrm rot="16200000">
              <a:off x="831960" y="218628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2162"/>
            <p:cNvCxnSpPr>
              <a:stCxn id="48" idx="0"/>
              <a:endCxn id="50" idx="2"/>
            </p:cNvCxnSpPr>
            <p:nvPr/>
          </p:nvCxnSpPr>
          <p:spPr>
            <a:xfrm flipV="1" rot="16200000">
              <a:off x="83160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2160"/>
            <p:cNvCxnSpPr>
              <a:stCxn id="52" idx="0"/>
              <a:endCxn id="53" idx="2"/>
            </p:cNvCxnSpPr>
            <p:nvPr/>
          </p:nvCxnSpPr>
          <p:spPr>
            <a:xfrm flipV="1" rot="16200000">
              <a:off x="2089440" y="4322160"/>
              <a:ext cx="199440" cy="5014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2158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587600" y="4321800"/>
              <a:ext cx="199440" cy="50220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2156"/>
            <p:cNvCxnSpPr>
              <a:stCxn id="57" idx="0"/>
              <a:endCxn id="58" idx="2"/>
            </p:cNvCxnSpPr>
            <p:nvPr/>
          </p:nvCxnSpPr>
          <p:spPr>
            <a:xfrm flipV="1" rot="16200000">
              <a:off x="3343320" y="3474360"/>
              <a:ext cx="199800" cy="1003320"/>
            </a:xfrm>
            <a:prstGeom prst="bentConnector5">
              <a:avLst>
                <a:gd name="adj1" fmla="val 414981"/>
                <a:gd name="adj2" fmla="val 165936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2154"/>
            <p:cNvCxnSpPr>
              <a:stCxn id="60" idx="0"/>
              <a:endCxn id="58" idx="2"/>
            </p:cNvCxnSpPr>
            <p:nvPr/>
          </p:nvCxnSpPr>
          <p:spPr>
            <a:xfrm rot="16200000">
              <a:off x="2841840" y="3975840"/>
              <a:ext cx="199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2152"/>
            <p:cNvCxnSpPr>
              <a:stCxn id="53" idx="0"/>
              <a:endCxn id="58" idx="2"/>
            </p:cNvCxnSpPr>
            <p:nvPr/>
          </p:nvCxnSpPr>
          <p:spPr>
            <a:xfrm flipH="1" flipV="1" rot="5400000">
              <a:off x="2340000" y="3474360"/>
              <a:ext cx="199800" cy="1003680"/>
            </a:xfrm>
            <a:prstGeom prst="bentConnector5">
              <a:avLst>
                <a:gd name="adj1" fmla="val 414981"/>
                <a:gd name="adj2" fmla="val 165913"/>
                <a:gd name="adj3" fmla="val -1606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150"/>
            <p:cNvCxnSpPr>
              <a:stCxn id="58" idx="0"/>
              <a:endCxn id="63" idx="2"/>
            </p:cNvCxnSpPr>
            <p:nvPr/>
          </p:nvCxnSpPr>
          <p:spPr>
            <a:xfrm rot="16200000">
              <a:off x="2841480" y="337932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2148"/>
            <p:cNvCxnSpPr>
              <a:stCxn id="63" idx="0"/>
              <a:endCxn id="65" idx="2"/>
            </p:cNvCxnSpPr>
            <p:nvPr/>
          </p:nvCxnSpPr>
          <p:spPr>
            <a:xfrm rot="16200000">
              <a:off x="2841480" y="278244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2146"/>
            <p:cNvCxnSpPr>
              <a:stCxn id="65" idx="0"/>
              <a:endCxn id="67" idx="2"/>
            </p:cNvCxnSpPr>
            <p:nvPr/>
          </p:nvCxnSpPr>
          <p:spPr>
            <a:xfrm rot="16200000">
              <a:off x="284148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2144"/>
            <p:cNvCxnSpPr>
              <a:stCxn id="67" idx="0"/>
              <a:endCxn id="69" idx="2"/>
            </p:cNvCxnSpPr>
            <p:nvPr/>
          </p:nvCxnSpPr>
          <p:spPr>
            <a:xfrm flipV="1" rot="16200000">
              <a:off x="259092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2142"/>
            <p:cNvCxnSpPr>
              <a:stCxn id="71" idx="0"/>
              <a:endCxn id="69" idx="2"/>
            </p:cNvCxnSpPr>
            <p:nvPr/>
          </p:nvCxnSpPr>
          <p:spPr>
            <a:xfrm flipH="1" flipV="1" rot="5400000">
              <a:off x="2088000" y="1338120"/>
              <a:ext cx="199440" cy="50292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2140"/>
            <p:cNvCxnSpPr>
              <a:stCxn id="73" idx="0"/>
              <a:endCxn id="74" idx="2"/>
            </p:cNvCxnSpPr>
            <p:nvPr/>
          </p:nvCxnSpPr>
          <p:spPr>
            <a:xfrm flipV="1" rot="16200000">
              <a:off x="4600440" y="1933920"/>
              <a:ext cx="200880" cy="50364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130"/>
            <p:cNvCxnSpPr>
              <a:stCxn id="76" idx="0"/>
              <a:endCxn id="74" idx="2"/>
            </p:cNvCxnSpPr>
            <p:nvPr/>
          </p:nvCxnSpPr>
          <p:spPr>
            <a:xfrm flipH="1" flipV="1" rot="5400000">
              <a:off x="4096800" y="193428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2128"/>
            <p:cNvCxnSpPr>
              <a:stCxn id="74" idx="0"/>
              <a:endCxn id="78" idx="2"/>
            </p:cNvCxnSpPr>
            <p:nvPr/>
          </p:nvCxnSpPr>
          <p:spPr>
            <a:xfrm rot="16200000">
              <a:off x="4349520" y="1589400"/>
              <a:ext cx="19944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2120"/>
            <p:cNvCxnSpPr>
              <a:stCxn id="80" idx="0"/>
              <a:endCxn id="81" idx="2"/>
            </p:cNvCxnSpPr>
            <p:nvPr/>
          </p:nvCxnSpPr>
          <p:spPr>
            <a:xfrm flipV="1" rot="16200000">
              <a:off x="6109200" y="253080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118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5605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116"/>
            <p:cNvCxnSpPr>
              <a:stCxn id="81" idx="0"/>
              <a:endCxn id="85" idx="2"/>
            </p:cNvCxnSpPr>
            <p:nvPr/>
          </p:nvCxnSpPr>
          <p:spPr>
            <a:xfrm rot="16200000">
              <a:off x="5857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2110"/>
            <p:cNvCxnSpPr>
              <a:stCxn id="85" idx="0"/>
              <a:endCxn id="87" idx="2"/>
            </p:cNvCxnSpPr>
            <p:nvPr/>
          </p:nvCxnSpPr>
          <p:spPr>
            <a:xfrm flipV="1" rot="16200000">
              <a:off x="5858280" y="1589040"/>
              <a:ext cx="199440" cy="10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2108"/>
            <p:cNvCxnSpPr>
              <a:stCxn id="89" idx="0"/>
              <a:endCxn id="90" idx="2"/>
            </p:cNvCxnSpPr>
            <p:nvPr/>
          </p:nvCxnSpPr>
          <p:spPr>
            <a:xfrm flipV="1" rot="16200000">
              <a:off x="7617600" y="1935000"/>
              <a:ext cx="199440" cy="5025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104"/>
            <p:cNvCxnSpPr>
              <a:stCxn id="92" idx="0"/>
              <a:endCxn id="90" idx="2"/>
            </p:cNvCxnSpPr>
            <p:nvPr/>
          </p:nvCxnSpPr>
          <p:spPr>
            <a:xfrm flipH="1" flipV="1" rot="5400000">
              <a:off x="7114680" y="1935000"/>
              <a:ext cx="199440" cy="50328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102"/>
            <p:cNvCxnSpPr>
              <a:stCxn id="94" idx="0"/>
              <a:endCxn id="95" idx="2"/>
            </p:cNvCxnSpPr>
            <p:nvPr/>
          </p:nvCxnSpPr>
          <p:spPr>
            <a:xfrm flipV="1" rot="16200000">
              <a:off x="9124200" y="2531160"/>
              <a:ext cx="200880" cy="50292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98"/>
            <p:cNvCxnSpPr>
              <a:stCxn id="97" idx="0"/>
              <a:endCxn id="95" idx="2"/>
            </p:cNvCxnSpPr>
            <p:nvPr/>
          </p:nvCxnSpPr>
          <p:spPr>
            <a:xfrm flipH="1" flipV="1" rot="5400000">
              <a:off x="8620920" y="2531160"/>
              <a:ext cx="200880" cy="503280"/>
            </a:xfrm>
            <a:prstGeom prst="bentConnector3">
              <a:avLst>
                <a:gd name="adj1" fmla="val 500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070"/>
            <p:cNvCxnSpPr>
              <a:stCxn id="95" idx="0"/>
              <a:endCxn id="99" idx="2"/>
            </p:cNvCxnSpPr>
            <p:nvPr/>
          </p:nvCxnSpPr>
          <p:spPr>
            <a:xfrm rot="16200000">
              <a:off x="8872920" y="2185560"/>
              <a:ext cx="20088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068"/>
            <p:cNvCxnSpPr>
              <a:stCxn id="99" idx="0"/>
              <a:endCxn id="101" idx="2"/>
            </p:cNvCxnSpPr>
            <p:nvPr/>
          </p:nvCxnSpPr>
          <p:spPr>
            <a:xfrm flipV="1" rot="16200000">
              <a:off x="8496720" y="1212480"/>
              <a:ext cx="199440" cy="753840"/>
            </a:xfrm>
            <a:prstGeom prst="bentConnector5">
              <a:avLst>
                <a:gd name="adj1" fmla="val 116636"/>
                <a:gd name="adj2" fmla="val -87912"/>
                <a:gd name="adj3" fmla="val -31537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066"/>
            <p:cNvCxnSpPr>
              <a:stCxn id="90" idx="0"/>
              <a:endCxn id="101" idx="2"/>
            </p:cNvCxnSpPr>
            <p:nvPr/>
          </p:nvCxnSpPr>
          <p:spPr>
            <a:xfrm flipH="1" flipV="1" rot="5400000">
              <a:off x="7742880" y="1212840"/>
              <a:ext cx="199440" cy="753840"/>
            </a:xfrm>
            <a:prstGeom prst="bentConnector5">
              <a:avLst>
                <a:gd name="adj1" fmla="val 116455"/>
                <a:gd name="adj2" fmla="val -87864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064"/>
            <p:cNvCxnSpPr>
              <a:stCxn id="101" idx="0"/>
              <a:endCxn id="104" idx="2"/>
            </p:cNvCxnSpPr>
            <p:nvPr/>
          </p:nvCxnSpPr>
          <p:spPr>
            <a:xfrm flipV="1" rot="16200000">
              <a:off x="6297840" y="-829800"/>
              <a:ext cx="199440" cy="3645000"/>
            </a:xfrm>
            <a:prstGeom prst="bentConnector5">
              <a:avLst>
                <a:gd name="adj1" fmla="val 116636"/>
                <a:gd name="adj2" fmla="val 48093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062"/>
            <p:cNvCxnSpPr>
              <a:stCxn id="87" idx="0"/>
              <a:endCxn id="104" idx="2"/>
            </p:cNvCxnSpPr>
            <p:nvPr/>
          </p:nvCxnSpPr>
          <p:spPr>
            <a:xfrm flipV="1" rot="16200000">
              <a:off x="5166720" y="301320"/>
              <a:ext cx="199440" cy="1382760"/>
            </a:xfrm>
            <a:prstGeom prst="bentConnector5">
              <a:avLst>
                <a:gd name="adj1" fmla="val 116636"/>
                <a:gd name="adj2" fmla="val -47942"/>
                <a:gd name="adj3" fmla="val -3160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60"/>
            <p:cNvCxnSpPr>
              <a:stCxn id="78" idx="0"/>
              <a:endCxn id="104" idx="2"/>
            </p:cNvCxnSpPr>
            <p:nvPr/>
          </p:nvCxnSpPr>
          <p:spPr>
            <a:xfrm flipH="1" flipV="1" rot="5400000">
              <a:off x="4412160" y="929520"/>
              <a:ext cx="199440" cy="126360"/>
            </a:xfrm>
            <a:prstGeom prst="bentConnector3">
              <a:avLst>
                <a:gd name="adj1" fmla="val 500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059"/>
            <p:cNvCxnSpPr>
              <a:stCxn id="69" idx="0"/>
              <a:endCxn id="104" idx="2"/>
            </p:cNvCxnSpPr>
            <p:nvPr/>
          </p:nvCxnSpPr>
          <p:spPr>
            <a:xfrm flipH="1" flipV="1" rot="5400000">
              <a:off x="3407040" y="-75240"/>
              <a:ext cx="199440" cy="2136240"/>
            </a:xfrm>
            <a:prstGeom prst="bentConnector5">
              <a:avLst>
                <a:gd name="adj1" fmla="val 116636"/>
                <a:gd name="adj2" fmla="val 46435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058"/>
            <p:cNvCxnSpPr>
              <a:stCxn id="50" idx="0"/>
              <a:endCxn id="104" idx="2"/>
            </p:cNvCxnSpPr>
            <p:nvPr/>
          </p:nvCxnSpPr>
          <p:spPr>
            <a:xfrm flipH="1" flipV="1" rot="5400000">
              <a:off x="2652840" y="-829440"/>
              <a:ext cx="199440" cy="3644640"/>
            </a:xfrm>
            <a:prstGeom prst="bentConnector5">
              <a:avLst>
                <a:gd name="adj1" fmla="val 116636"/>
                <a:gd name="adj2" fmla="val 47910"/>
                <a:gd name="adj3" fmla="val -1627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2054"/>
            <p:cNvSpPr/>
            <p:nvPr/>
          </p:nvSpPr>
          <p:spPr>
            <a:xfrm>
              <a:off x="4143960" y="495360"/>
              <a:ext cx="862200" cy="397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قال رسول الله صلى الله عليه وسلّم: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”أقرأني جبريل على حَرف، فلم أزل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أستزيده حتى انتهى إلى سبعة أحرف“.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 رواه البخاري عن ابن عبّاس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500" spc="-1" strike="noStrike">
                  <a:solidFill>
                    <a:srgbClr val="000066"/>
                  </a:solidFill>
                  <a:latin typeface="Arial"/>
                </a:rPr>
                <a:t>رضي الله عنه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2055"/>
            <p:cNvSpPr/>
            <p:nvPr/>
          </p:nvSpPr>
          <p:spPr>
            <a:xfrm>
              <a:off x="4996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أبي طال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2056"/>
            <p:cNvSpPr/>
            <p:nvPr/>
          </p:nvSpPr>
          <p:spPr>
            <a:xfrm>
              <a:off x="200808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مسعود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7"/>
            <p:cNvSpPr/>
            <p:nvPr/>
          </p:nvSpPr>
          <p:spPr>
            <a:xfrm>
              <a:off x="40179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الدرداء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061"/>
            <p:cNvSpPr/>
            <p:nvPr/>
          </p:nvSpPr>
          <p:spPr>
            <a:xfrm>
              <a:off x="5526360" y="1092240"/>
              <a:ext cx="86220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ُبي بن كعب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3"/>
            <p:cNvSpPr/>
            <p:nvPr/>
          </p:nvSpPr>
          <p:spPr>
            <a:xfrm>
              <a:off x="7788960" y="109224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نس بن مالك رضي الله ع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5"/>
            <p:cNvSpPr/>
            <p:nvPr/>
          </p:nvSpPr>
          <p:spPr>
            <a:xfrm>
              <a:off x="703548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عمرو بن العلاء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ّاء السبع وأكثرهم شيوخ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67"/>
            <p:cNvSpPr/>
            <p:nvPr/>
          </p:nvSpPr>
          <p:spPr>
            <a:xfrm>
              <a:off x="8542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هري (تابع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9"/>
            <p:cNvSpPr/>
            <p:nvPr/>
          </p:nvSpPr>
          <p:spPr>
            <a:xfrm>
              <a:off x="8542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نافع بن أبي نعي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أهل المدين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97"/>
            <p:cNvSpPr/>
            <p:nvPr/>
          </p:nvSpPr>
          <p:spPr>
            <a:xfrm>
              <a:off x="803952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بيبه قالو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ارئ بالمدين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101"/>
            <p:cNvSpPr/>
            <p:nvPr/>
          </p:nvSpPr>
          <p:spPr>
            <a:xfrm>
              <a:off x="904500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تلميذه ورش شيخ القُرّاء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محققين انتهت إليه رئاس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الإقراء بالديار المصري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103"/>
            <p:cNvSpPr/>
            <p:nvPr/>
          </p:nvSpPr>
          <p:spPr>
            <a:xfrm>
              <a:off x="653256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وس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ضابط محرّر ثِ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107"/>
            <p:cNvSpPr/>
            <p:nvPr/>
          </p:nvSpPr>
          <p:spPr>
            <a:xfrm>
              <a:off x="753768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 (عن يحيى اليزيد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القُرّاء ويخ الناس في زمان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ضابط أول من جمع القراء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رأ بسائر القراءات السبع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109"/>
            <p:cNvSpPr/>
            <p:nvPr/>
          </p:nvSpPr>
          <p:spPr>
            <a:xfrm>
              <a:off x="552744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السائب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صحابي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115"/>
            <p:cNvSpPr/>
            <p:nvPr/>
          </p:nvSpPr>
          <p:spPr>
            <a:xfrm>
              <a:off x="5527440" y="228600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كثي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(إمام  أهل مكة في القراءة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117"/>
            <p:cNvSpPr/>
            <p:nvPr/>
          </p:nvSpPr>
          <p:spPr>
            <a:xfrm>
              <a:off x="5024160" y="288288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بزّي (عن عكرمة عن قسط)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البزّي هو مُقرئ مكة ومؤذّ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مسجد الحر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119"/>
            <p:cNvSpPr/>
            <p:nvPr/>
          </p:nvSpPr>
          <p:spPr>
            <a:xfrm>
              <a:off x="6030360" y="288288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قنبل (عن القواس عن قسط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قنبل هو شيخ القُرّاء بالحجاز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127"/>
            <p:cNvSpPr/>
            <p:nvPr/>
          </p:nvSpPr>
          <p:spPr>
            <a:xfrm>
              <a:off x="4017960" y="168912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بد الله بن عامر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أهل الشام في القراءة وانتهت إليه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شيخة الإقراء بها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129"/>
            <p:cNvSpPr/>
            <p:nvPr/>
          </p:nvSpPr>
          <p:spPr>
            <a:xfrm>
              <a:off x="35150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ن ذكوان (عن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ن يحيى الزماري)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اوي ثقة شيخ الإقراء بالشا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إمام جامع دمشق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139"/>
            <p:cNvSpPr/>
            <p:nvPr/>
          </p:nvSpPr>
          <p:spPr>
            <a:xfrm>
              <a:off x="4521240" y="2286000"/>
              <a:ext cx="86220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هشام (عن أيوب التميمي عن يحيى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زماري) إمام أهل دمشق وخطيبه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محدثهم ومقرئهم ومفتيهم رجع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امامة إليه وإلى أبن ذكوا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وفاة أيوب التمي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2141"/>
            <p:cNvSpPr/>
            <p:nvPr/>
          </p:nvSpPr>
          <p:spPr>
            <a:xfrm>
              <a:off x="150588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زر بن حبيش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143"/>
            <p:cNvSpPr/>
            <p:nvPr/>
          </p:nvSpPr>
          <p:spPr>
            <a:xfrm>
              <a:off x="2511000" y="1689120"/>
              <a:ext cx="8611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قمة بن قيس (تابعي) كان 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2145"/>
            <p:cNvSpPr/>
            <p:nvPr/>
          </p:nvSpPr>
          <p:spPr>
            <a:xfrm>
              <a:off x="2512080" y="228600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براهيم النخع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مشهور كان صالحاً زاهداً و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2147"/>
            <p:cNvSpPr/>
            <p:nvPr/>
          </p:nvSpPr>
          <p:spPr>
            <a:xfrm>
              <a:off x="2512080" y="288288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ليمان الأعمش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لقي كبار التابعي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2149"/>
            <p:cNvSpPr/>
            <p:nvPr/>
          </p:nvSpPr>
          <p:spPr>
            <a:xfrm>
              <a:off x="2512080" y="34797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حمزة بن حبيب بن عمار بن اسماعيل الزيات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أزهد القُرّاء، الامام الحبر وأحد القُراء السبع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صارت الامامة إليه بعد عاصم والاعمش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وكان كفيفاً وهو حجة ثقة قيما بكتاب الله 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بصيراً بالفرائض عارفاً بالعربية حافظاً للحديث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00" spc="-1" strike="noStrike">
                  <a:solidFill>
                    <a:srgbClr val="000000"/>
                  </a:solidFill>
                  <a:latin typeface="Arial"/>
                </a:rPr>
                <a:t>عابداً زاهداً خاشعاً ورِعاً قانتاً لله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2151"/>
            <p:cNvSpPr/>
            <p:nvPr/>
          </p:nvSpPr>
          <p:spPr>
            <a:xfrm>
              <a:off x="1508760" y="407556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لي بن جمزة بن عبد الله الكسائ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نتهت إليه رئاسة الإقراء بالكوف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عد حمزة الزيات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 الناس بالقراءة في عهده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أعلمهم بالنحو وأوحدهم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2153"/>
            <p:cNvSpPr/>
            <p:nvPr/>
          </p:nvSpPr>
          <p:spPr>
            <a:xfrm>
              <a:off x="2512080" y="407556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َلَف بن هشام الأس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حد القُراء العشرة روى عن سليم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بن عيسى عن حمزة حفظ القرآن ابن عشر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سنين كان ثقة كبيراً زاهداً عابداً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لم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155"/>
            <p:cNvSpPr/>
            <p:nvPr/>
          </p:nvSpPr>
          <p:spPr>
            <a:xfrm>
              <a:off x="3515040" y="4075560"/>
              <a:ext cx="85896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خلاد بن خالد الشيبان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إمام ف القراءة ثقة عارف محقق أستاذ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روى عن سليم بن عيسى بن  حمز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2157"/>
            <p:cNvSpPr/>
            <p:nvPr/>
          </p:nvSpPr>
          <p:spPr>
            <a:xfrm>
              <a:off x="1006920" y="4672440"/>
              <a:ext cx="859320" cy="39636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ليث بن خالد البغدد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ثقة معروف ضابط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159"/>
            <p:cNvSpPr/>
            <p:nvPr/>
          </p:nvSpPr>
          <p:spPr>
            <a:xfrm>
              <a:off x="2009880" y="4672440"/>
              <a:ext cx="85932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الدور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راوي أبي عمرو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2161"/>
            <p:cNvSpPr/>
            <p:nvPr/>
          </p:nvSpPr>
          <p:spPr>
            <a:xfrm>
              <a:off x="500760" y="1689120"/>
              <a:ext cx="861120" cy="39780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ي عبد الرحمن السلم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مُقرئ الكوف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_s1028"/>
            <p:cNvCxnSpPr/>
            <p:nvPr/>
          </p:nvCxnSpPr>
          <p:spPr>
            <a:xfrm flipH="1" flipV="1" rot="5400000">
              <a:off x="1855440" y="2135520"/>
              <a:ext cx="111240" cy="4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4" name="_s2170"/>
            <p:cNvSpPr/>
            <p:nvPr/>
          </p:nvSpPr>
          <p:spPr>
            <a:xfrm>
              <a:off x="501840" y="228600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 بن بهدلة أبي النجود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يخ الإقراء بالكوفة وأحد القُراء السبع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هو الامام  الذي انتهت إليه رئاس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قراءة بالكوفة بعد أبي عبد الرحمن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السلمي وكان أحسن الناس صوتاً بالقرآن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2172"/>
            <p:cNvSpPr/>
            <p:nvPr/>
          </p:nvSpPr>
          <p:spPr>
            <a:xfrm>
              <a:off x="0" y="2882880"/>
              <a:ext cx="858960" cy="3978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حفص بن سليمان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وكان ربيب عاصم ابن زوجته وهو ثقة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 ضابط للقراءة، كان أعلم الناس بقراءة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اص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2174"/>
            <p:cNvSpPr/>
            <p:nvPr/>
          </p:nvSpPr>
          <p:spPr>
            <a:xfrm>
              <a:off x="1002600" y="2882880"/>
              <a:ext cx="859320" cy="39492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شعبة بن عياش بن سالم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أبو بكر الأسدي الكوفي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عرض القرآن على عاصم ثلاث مرات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400" spc="-1" strike="noStrike">
                  <a:solidFill>
                    <a:srgbClr val="000000"/>
                  </a:solidFill>
                  <a:latin typeface="Arial"/>
                </a:rPr>
                <a:t>كان إماماً كبيراُ عالماً عاملاً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 flipH="1">
            <a:off x="944640" y="2200320"/>
            <a:ext cx="97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94800" y="5827680"/>
            <a:ext cx="1950840" cy="107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شروط صحة هذه القراءات هي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التوات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موافقة الرسم العثماني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أن توافق قواعد اللغة العربي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" spc="-1" strike="noStrike">
                <a:solidFill>
                  <a:srgbClr val="000000"/>
                </a:solidFill>
                <a:latin typeface="Tahoma"/>
                <a:cs typeface="Tahoma"/>
              </a:rPr>
              <a:t>وما خالف ذلك فهو شاذّ ولا يجوز الصلاة به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1022400" y="5776920"/>
            <a:ext cx="2879280" cy="1054080"/>
            <a:chOff x="-1022400" y="5776920"/>
            <a:chExt cx="2879280" cy="1054080"/>
          </a:xfrm>
        </p:grpSpPr>
        <p:sp>
          <p:nvSpPr>
            <p:cNvPr id="113" name=""/>
            <p:cNvSpPr/>
            <p:nvPr/>
          </p:nvSpPr>
          <p:spPr>
            <a:xfrm>
              <a:off x="-468360" y="5840280"/>
              <a:ext cx="2286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080" y="5866920"/>
              <a:ext cx="277560" cy="2026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41160" y="6099480"/>
              <a:ext cx="277560" cy="2026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1160" y="6326640"/>
              <a:ext cx="277560" cy="2023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1160" y="6579360"/>
              <a:ext cx="277560" cy="2023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-400680" y="5872320"/>
              <a:ext cx="1905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صحابة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988200" y="6104160"/>
              <a:ext cx="2493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تابعين وأتباعهم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813600" y="6332400"/>
              <a:ext cx="231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-1022400" y="6583680"/>
              <a:ext cx="2527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r" rtl="1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00" spc="-1" strike="noStrike">
                  <a:solidFill>
                    <a:srgbClr val="000000"/>
                  </a:solidFill>
                  <a:latin typeface="Tahoma"/>
                  <a:cs typeface="Tahoma"/>
                </a:rPr>
                <a:t>رواة القُرّاء السبع رضي الله عنهم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00" y="5776920"/>
              <a:ext cx="1808280" cy="1054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297240" y="0"/>
            <a:ext cx="2716200" cy="405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00" spc="-1" strike="noStrike">
                <a:solidFill>
                  <a:srgbClr val="000000"/>
                </a:solidFill>
                <a:latin typeface="Arial"/>
              </a:rPr>
              <a:t>شجرة تواتر القراءات السبع عن رسول الله صلى الله عليه وسلّ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2:42:25Z</dcterms:created>
  <dc:creator>Dr. Issa H. Alansari</dc:creator>
  <dc:description/>
  <dc:language>en-US</dc:language>
  <cp:lastModifiedBy>Dr. Issa H. Alansari</cp:lastModifiedBy>
  <dcterms:modified xsi:type="dcterms:W3CDTF">2004-07-20T17:40:53Z</dcterms:modified>
  <cp:revision>13</cp:revision>
  <dc:subject/>
  <dc:title>Slide 1</dc:title>
</cp:coreProperties>
</file>