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453-51A8-4477-B79B-5F403ADC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426-8F0E-4FEF-B3F0-FBE84FB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1D8-011B-4663-8710-F1620AC4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CEC-3D78-4405-95D8-9CE4FD0A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A92-91BF-484D-96D4-22C1C12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C56-8711-41FB-B071-AE6A964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EE0-38CE-46F7-8177-CDA7A4D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C04-E847-49FC-BC70-A35094D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416-9BED-4C88-B0BF-D0715F7A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F63-FC40-4BF0-A81C-8AC1EB6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85B-971D-49BC-9E21-CADBBF2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955-6C89-4F43-AE6D-ED852FDE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BEF-CFC6-491A-A1E7-B0345BCB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117360"/>
            <a:ext cx="489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30844" dir="3662235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نظم حيات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30844" dir="3662235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5683320"/>
            <a:ext cx="336240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4120" y="5668920"/>
            <a:ext cx="318132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5661000"/>
            <a:ext cx="30542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L-Mateen"/>
              </a:rPr>
              <a:t>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ateen"/>
              </a:rPr>
              <a:t>علي بن حمود الحرب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فيد من نقاط قوتي في مشاريع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باب وجود نقاط الضعف لد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907920"/>
            <a:ext cx="7920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هناك طريقة في معـــــالجة هذه النقـــــاط مثــل  (الدراسة ، التدريب ، تعويد النفس على بعض الطباع)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أستطيع وضع مخطط زمني لمعالجة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صفات التي تعجبني في الآخرين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907920"/>
            <a:ext cx="792000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) من أهم الشخصيات الذين أعج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تاريخية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)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ب)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ج)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907920"/>
            <a:ext cx="7920000" cy="58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معاصر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07920"/>
            <a:ext cx="8209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هو الشخص الذي كان له أكبر الأثر في حيات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ماذا كان لهذا الشخص ذلك التأثير الكبي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907920"/>
            <a:ext cx="792000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عد لحظات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السبب في كونها لحظات سعيد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765000"/>
            <a:ext cx="3313080" cy="792360"/>
          </a:xfrm>
          <a:custGeom>
            <a:avLst/>
            <a:gdLst>
              <a:gd name="textAreaLeft" fmla="*/ 93240 w 3313080"/>
              <a:gd name="textAreaRight" fmla="*/ 3219840 w 3313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02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684" y="21600"/>
                </a:lnTo>
                <a:arcTo wR="3600" hR="3600" stAng="10800000" swAng="5400000"/>
                <a:lnTo>
                  <a:pt x="9028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لماذا أعيش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916280"/>
            <a:ext cx="4248360" cy="792000"/>
          </a:xfrm>
          <a:custGeom>
            <a:avLst/>
            <a:gdLst>
              <a:gd name="textAreaLeft" fmla="*/ 93240 w 4248360"/>
              <a:gd name="textAreaRight" fmla="*/ 4155120 w 424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58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2222" y="21600"/>
                </a:lnTo>
                <a:arcTo wR="3600" hR="3600" stAng="10800000" swAng="5400000"/>
                <a:lnTo>
                  <a:pt x="11582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ماذا سأحقق في حياتي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068640"/>
            <a:ext cx="5113440" cy="792000"/>
          </a:xfrm>
          <a:custGeom>
            <a:avLst/>
            <a:gdLst>
              <a:gd name="textAreaLeft" fmla="*/ 93240 w 5113440"/>
              <a:gd name="textAreaRight" fmla="*/ 5020200 w 5113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394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804" y="21600"/>
                </a:lnTo>
                <a:arcTo wR="3600" hR="3600" stAng="10800000" swAng="5400000"/>
                <a:lnTo>
                  <a:pt x="13940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سعـــــــــــــــــــــــــــيد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4221000"/>
            <a:ext cx="5834160" cy="792360"/>
          </a:xfrm>
          <a:custGeom>
            <a:avLst/>
            <a:gdLst>
              <a:gd name="textAreaLeft" fmla="*/ 93240 w 5834160"/>
              <a:gd name="textAreaRight" fmla="*/ 5740920 w 583416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89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379" y="21600"/>
                </a:lnTo>
                <a:arcTo wR="3600" hR="3600" stAng="10800000" swAng="5400000"/>
                <a:lnTo>
                  <a:pt x="15897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صادق دائماَ مع نفسي وفي كل علاقاتي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75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750"/>
                            </p:stCondLst>
                            <p:childTnLst>
                              <p:par>
                                <p:cTn id="10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907920"/>
            <a:ext cx="79200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1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و كان لدي موارد غير محددة ، ما هي الأعمال التي سأختاره القيام ب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907920"/>
            <a:ext cx="80647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1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- لو لم يبقي من عمري سوى ستة أشهر ماذا سأنجز فيها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500280"/>
            <a:ext cx="7920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ثلاث أو أربع أمو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07920"/>
            <a:ext cx="7920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أنظر لعملي الذي أمارسه كل يوم ما هو أه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       عمل عملته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500280"/>
            <a:ext cx="79200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يومية التي أستمتع بأدائها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* يمكن تسجيل الأعمال اليومية وتحليلها لمدة أسبوع لتسهيل إجابة هذا السؤال والذي يلي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عمالي التي لها الأثر الأكب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88000" y="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مدى شعوري بالرضا عن مستوى إنجاز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م الفجوة بين ما أريد وما أنا عليه الآن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143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إجراءات التي أضعها لعلاج هذه الفجوة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663560"/>
            <a:ext cx="79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طيع رفع مستواي الإيماني والعباد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الجانب التطبيق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مستواي العملي والثقاف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0360" y="10382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كتب التي أريد أن أقرأها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تخصصي 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مجالات هامة يجب أن أتحسن فيها)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907920"/>
            <a:ext cx="79200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مجال عملي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264960"/>
            <a:ext cx="79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3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علاقاتي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أ) مع أه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ب) مع أصحا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ج) مع المحيطين 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143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نفسي صحياً وجسدياً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20640"/>
            <a:ext cx="7631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أوضاعي المالي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ضع مخطط عملي مرتبط بزمن محدد يسهم في تنفيذ 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9080" y="69840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عيوبي التي تمنعني من تحقيق النمو في هذه الجوانب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عالج هذه العيوب وأتجاوزها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76040"/>
            <a:ext cx="41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- لي أدوار في الحياة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ماذا أستطيع أن أفعل ليك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أدائي أفضل تجاه كل م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 (قد لا تنطبق عليك بعض البنو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858960"/>
          <a:ext cx="5329080" cy="5481360"/>
        </p:xfrm>
        <a:graphic>
          <a:graphicData uri="http://schemas.openxmlformats.org/drawingml/2006/table">
            <a:tbl>
              <a:tblPr/>
              <a:tblGrid>
                <a:gridCol w="1220760"/>
                <a:gridCol w="41083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أ) الوال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ب) أستاذ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ج) الأصدقاء والج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د) دوري الفك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هـ) دوري الاجتم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و) دوري الخي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ز) الجانب ال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ح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ط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ختر كلمة واحدة من كل قائ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03280" y="981000"/>
          <a:ext cx="2376720" cy="1552680"/>
        </p:xfrm>
        <a:graphic>
          <a:graphicData uri="http://schemas.openxmlformats.org/drawingml/2006/table">
            <a:tbl>
              <a:tblPr/>
              <a:tblGrid>
                <a:gridCol w="1297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متعــــ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شه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ثرو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651640" y="2708280"/>
          <a:ext cx="1515960" cy="1552680"/>
        </p:xfrm>
        <a:graphic>
          <a:graphicData uri="http://schemas.openxmlformats.org/drawingml/2006/table">
            <a:tbl>
              <a:tblPr/>
              <a:tblGrid>
                <a:gridCol w="1079640"/>
                <a:gridCol w="436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ـــــ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عط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مغامــــ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64000" y="27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01440"/>
                <a:gridCol w="61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اطف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ل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صحــ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360" y="45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73080"/>
                <a:gridCol w="54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س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أنــــــ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403280" y="4508640"/>
          <a:ext cx="1515960" cy="1552320"/>
        </p:xfrm>
        <a:graphic>
          <a:graphicData uri="http://schemas.openxmlformats.org/drawingml/2006/table">
            <a:tbl>
              <a:tblPr/>
              <a:tblGrid>
                <a:gridCol w="1079280"/>
                <a:gridCol w="43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احة الب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حترام الآخر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حـــــ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60360" y="6301800"/>
            <a:ext cx="89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95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هذا الاختيار يساهم في تحديد أهدافك الرئيسية والتي تنطلق منها لترتيب حيات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أدوارك في الحيا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340000" y="115920"/>
          <a:ext cx="3311640" cy="665460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هدا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عام القا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47640" y="614520"/>
          <a:ext cx="4159440" cy="5449680"/>
        </p:xfrm>
        <a:graphic>
          <a:graphicData uri="http://schemas.openxmlformats.org/drawingml/2006/table">
            <a:tbl>
              <a:tblPr/>
              <a:tblGrid>
                <a:gridCol w="2511360"/>
                <a:gridCol w="1648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عام القاد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خمس سنوات القاد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476280"/>
          <a:ext cx="4159080" cy="5813280"/>
        </p:xfrm>
        <a:graphic>
          <a:graphicData uri="http://schemas.openxmlformats.org/drawingml/2006/table">
            <a:tbl>
              <a:tblPr/>
              <a:tblGrid>
                <a:gridCol w="1009440"/>
                <a:gridCol w="314964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خمس سنوات القادم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رسالة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هداف مح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907920"/>
            <a:ext cx="79200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هتماماتي في الحيا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لهدف الرئيسي لي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907920"/>
            <a:ext cx="79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يترجل الفا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ملأ الفراغ فيما يلي:( تخيل نفسك وقد بلغت من العمر عتيا بعمل صالح إن شاء الله وجلست مع أحفادك أو أحد القريبين منك تتذكر أهم  إنجازاتك في الحيا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(اكتب اسمك هنا)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كنت متميزاً في مجال (اكتب المجال الذي تود التميز فيه)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قد أنجزت إنجازات عظيمة وحققت مشاريع كبيرة من أهمها ما يل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60280"/>
            <a:ext cx="79200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ختام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لكي تحقق أهدافك في الحياة وترتب أولوياتك قد تحتاج فترة زمنية حتى تستطيع أن تملأ هذه البيانات وتحدد أولوياتك في الحياة المه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عزي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بدء بجد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استعانة بالله تعا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طاعة والبعد عن المعاص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إكثار من الدع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ستشارة الصالحين والمختص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صلاة الاستخار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حسن إدارة الوق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تطبيق ما توصلت إليه من ترتيب لأولوياتك ووضع جدول مفصل لتطبيقها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لا تنساني من صالح دعائك وفقك الله تعالى وسدد خطا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907920"/>
            <a:ext cx="7920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بادئ التي أعيش وفق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907920"/>
            <a:ext cx="8353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شاريع التي أنجزتها في حياتي حتى الآن ؟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ذا أحتاج الآن من قدرات وإمكانات لأحقق مشاريعي المستقبلة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907920"/>
            <a:ext cx="7920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تي أستمتع عند القيام بها؟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قوت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6:45:41Z</dcterms:created>
  <dc:creator>نصيب</dc:creator>
  <dc:description/>
  <dc:language>en-US</dc:language>
  <cp:lastModifiedBy>نصيب</cp:lastModifiedBy>
  <dcterms:modified xsi:type="dcterms:W3CDTF">2004-06-26T06:01:11Z</dcterms:modified>
  <cp:revision>27</cp:revision>
  <dc:subject/>
  <dc:title>الشريحة 1</dc:title>
</cp:coreProperties>
</file>