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081A-954E-4B4E-81AB-59423ADFD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2AA2-6392-4303-A286-B7267995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12BB-108F-4E0F-988B-712E59F51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420C-DB27-4525-8039-B62BEA2C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FB3B-E83B-4696-998B-F2E3712B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58C4-6E22-42B2-A7AA-3AAD23BE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0506-DA94-4D10-9C59-29C48B2B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2AA7-A245-4769-88A6-80DE4A49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F94B-C956-4799-9640-77317A07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72C9-61D3-4DEE-8057-D996A9A2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7176-D4B6-48A5-B3DA-F543059C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4288-D9F1-430B-AF2D-D026AF43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EC1C-F8AB-4E14-948C-139D84788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9360">
            <a:solidFill>
              <a:srgbClr val="ffe701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 u="sng">
                <a:solidFill>
                  <a:srgbClr val="ffffff"/>
                </a:solidFill>
                <a:uFillTx/>
                <a:latin typeface="Arial"/>
              </a:rPr>
              <a:t>برنامج مهارات التدري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( مهارات تنفيذ التدريس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ccffff"/>
                </a:solidFill>
                <a:uFillTx/>
                <a:latin typeface="Arial"/>
              </a:rPr>
              <a:t>الهدف العام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 u="sng">
                <a:solidFill>
                  <a:srgbClr val="ffffff"/>
                </a:solidFill>
                <a:uFillTx/>
                <a:latin typeface="Arial"/>
              </a:rPr>
              <a:t>أن يكون المتدرب (المعلم) قادرا على أداء المهارات الرئيسة لعملية تنفيذ التدريس بكفاءة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11383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Thaghr 5 Hor."/>
              </a:rPr>
              <a:t>أساليب التهيئة لموضوع الدرس الجديد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الأسلوب التاسع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: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  <a:cs typeface="Monotype Koufi"/>
              </a:rPr>
              <a:t>تقديم المنظم المتقدم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 rtl="1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Monotype Koufi"/>
              </a:rPr>
              <a:t>                                       ( مقدمة عامة )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في صورة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Thaghr 5 Hor."/>
              </a:rPr>
              <a:t>لفظي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الأسلوب العاشر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: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  <a:cs typeface="Monotype Koufi"/>
              </a:rPr>
              <a:t>تقديم المنظم المتقد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 rtl="1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                                 ( مقدمة عامة ) في صورة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خريطة مفاهيم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الأسلوب الحادي عشر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: </a:t>
            </a:r>
            <a:r>
              <a:rPr b="1" lang="hi-IN" sz="4000" spc="-1" strike="noStrike">
                <a:solidFill>
                  <a:srgbClr val="ff0000"/>
                </a:solidFill>
                <a:latin typeface="Arial"/>
                <a:cs typeface="Monotype Koufi"/>
              </a:rPr>
              <a:t>الأحداث المتناقضة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0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5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0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مهارة الاستحواذ على انتباه الطلا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أهداف التدريبية ( السلوكية 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يتوقع من المتدرب بعد إتمام المناشط التدريبية  أن يكون قادرا على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8000"/>
                </a:solidFill>
                <a:latin typeface="Arial"/>
              </a:rPr>
              <a:t>تحديد المقصود بمفهوم جذب انتباه الطلا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cc"/>
                </a:solidFill>
                <a:latin typeface="Arial"/>
              </a:rPr>
              <a:t>تحديد أسباب تشتت انتباه الطلاب عن الدر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ستنتاج العلاقة بين هذه المهارة وتحقيق الأهداف التعلي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تحديد المهارات السلوكية المكونة لمهارة جذب الانتبا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أدية هذه المهارات باستخدام أسلوب تمثيل الأدوا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500"/>
                            </p:stCondLst>
                            <p:childTnLst>
                              <p:par>
                                <p:cTn id="4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4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23640" y="259920"/>
            <a:ext cx="8569080" cy="6048360"/>
          </a:xfrm>
          <a:prstGeom prst="rect">
            <a:avLst/>
          </a:prstGeom>
          <a:noFill/>
          <a:ln w="76320">
            <a:solidFill>
              <a:srgbClr val="99ccff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) مهارة الاستحواذ على انتباه الطلا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  <a:cs typeface="Monotype Koufi"/>
              </a:rPr>
              <a:t>جذب الانتبا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33cc"/>
                </a:solidFill>
                <a:latin typeface="Arial"/>
              </a:rPr>
              <a:t>عملية يقصد بها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i-IN" sz="4000" spc="-1" strike="noStrike">
                <a:solidFill>
                  <a:srgbClr val="00ff00"/>
                </a:solidFill>
                <a:latin typeface="Arial"/>
              </a:rPr>
              <a:t>توجيه شعور الطالب أو إدراكه الذهني إلى موقف سلوكي جديد من خلال بعض المثيرات المتنوع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hi-IN" sz="4000" spc="-1" strike="noStrike">
                <a:solidFill>
                  <a:srgbClr val="660033"/>
                </a:solidFill>
                <a:latin typeface="Arial"/>
              </a:rPr>
              <a:t>مهارة الاستحواذ على انتباه الطلا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00"/>
                </a:solidFill>
                <a:latin typeface="Arial"/>
              </a:rPr>
              <a:t>أنماط الطلاب المنصرفين عن الدر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الطلاب غير المستمعين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 الطلاب المنتظرون عقليا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 الطلاب المتوقعون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hi-IN" sz="4000" spc="-1" strike="noStrike">
                <a:solidFill>
                  <a:srgbClr val="ffffff"/>
                </a:solidFill>
                <a:latin typeface="Arial"/>
              </a:rPr>
              <a:t>الطلاب غير المتابعين (الملاحقين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هارة الاستحواذ على انتباه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لأداءات السلوكية للمهارة</a:t>
            </a:r>
            <a:r>
              <a:rPr b="0" lang="ar-SA" sz="3200" spc="-1" strike="noStrike">
                <a:solidFill>
                  <a:srgbClr val="bbe0e3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يهيئ البيئة الصفية الفيزيقية .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فرغ أدمغة الطلاب مما قد يشغلهم عن موضوع الدرس الجديد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-يهيئ الطلاب  لموضوع الدرس الجديد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يعمل على أن يتعلم الطلاب المعلومات بشكل منظم ومتتابع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يسعى ان يفهم طلابه ما يتعلمونه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– يقدم المادة العلمية بصورة مشوقة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يظهر حماسا أثناء التدريس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hi-IN" sz="2000" spc="-1" strike="noStrike">
                <a:solidFill>
                  <a:srgbClr val="660033"/>
                </a:solidFill>
                <a:latin typeface="Arial"/>
              </a:rPr>
              <a:t>مهارة الاستحواذ على انتباه الطلا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0000"/>
                </a:solidFill>
                <a:latin typeface="Arial"/>
              </a:rPr>
              <a:t>أسباب تشتت الانتباه لدى الطلاب غير المستمع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</a:rPr>
              <a:t>قد ينصرف الطالب عن الدرس بسب المشكلات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: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الشخصية – الاجتماعية- الصفية ...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طبيعة النمو في مرحلة المراهقة من (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8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) سن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عدم وضوح صوت المعل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الإجهاد الذهن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مظاهر التعب البدن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التكرار الممل من جانب المعل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عرض الدرس بطريقة مملة لا تناسب مستوى الطلاب واهتماماته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عدم تنظيم البيئة الفيزيقية (المادية) :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</a:rPr>
              <a:t>أثاث – أجهزة – تهوية - إضاء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مهارة الاستحواذ على انتباه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</a:rPr>
              <a:t>الأداءات السلوكية للمهارة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نظر إلى الطلاب دوما أثناء التدريس (التواصل البصري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 يتحرك بشكل مناسب في غرفة الص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نوع من الإشارات (الإيماءات) الجسدية وبشكل مناس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bbe0e3"/>
                </a:solidFill>
                <a:latin typeface="Arial"/>
              </a:rPr>
              <a:t>يغير من نبرات الصوت وشدته ونوعيته ويتحدث بسرعة مناسبة .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صمت برهة أثناء الحديث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ستخدم أساليب التركيز بشكل مناسب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وظف الأسئلة بشكل جيد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نوع من الأنشطة الصف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مهارة الاستحواذ على انتباه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</a:rPr>
              <a:t>الأداءات السلوكية للمهارة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نوع من أنماط الاتصال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ينوع من أشكال استقبال المعلوم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ff00"/>
                </a:solidFill>
                <a:latin typeface="Arial"/>
              </a:rPr>
              <a:t>يأتي ببعض المعلومات الإضافية المناسبة.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ستخدم أسماء الطلاب أثناء التدريس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</a:rPr>
              <a:t>يستخدم الفكاهة في التدريس بشكل مناس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6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هارات طرح الأسئلة التنفيذية (الشفهي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أهداف التدريبية ( السلوكية 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يتوقع من المتدرب بعد إتمام المناشط التدريبية  أن يكون قادرا على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8000"/>
                </a:solidFill>
                <a:latin typeface="Arial"/>
              </a:rPr>
              <a:t>استنتاج أهمية الأسئلة الصفية الشفه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cc"/>
                </a:solidFill>
                <a:latin typeface="Arial"/>
              </a:rPr>
              <a:t>تحديد أغراضهــــــ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ستنتاج العلاقة بين هذه المهارة وتحقيق الأهداف التعليمة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تحديد المهارات السلوكية المكونة ل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أدية هذه المهارات باستخدام أسلوب تمثيل الأدوا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500"/>
                            </p:stCondLst>
                            <p:childTnLst>
                              <p:par>
                                <p:cTn id="8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0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2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23640" y="259920"/>
            <a:ext cx="8569080" cy="604836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Monotype Koufi"/>
              </a:rPr>
              <a:t>السؤال الصف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Arial"/>
              </a:rPr>
              <a:t>جملة استفهامية أو طلب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توجه إلى الطالب أو عدة طلاب بغرض استجلاء إجابة لفظية أو لفت انتباههم لأمر معين أثناء الدرس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0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00"/>
                </a:solidFill>
                <a:latin typeface="Arial"/>
                <a:cs typeface="PT Bold Heading"/>
              </a:rPr>
              <a:t>تعرف </a:t>
            </a:r>
            <a:r>
              <a:rPr b="0" lang="ar-SA" sz="3200" spc="-1" strike="noStrike" u="sng">
                <a:solidFill>
                  <a:srgbClr val="003300"/>
                </a:solidFill>
                <a:uFillTx/>
                <a:latin typeface="Arial"/>
                <a:cs typeface="PT Bold Heading"/>
              </a:rPr>
              <a:t>مهارات التدريس</a:t>
            </a:r>
            <a:r>
              <a:rPr b="0" lang="ar-SA" sz="3200" spc="-1" strike="noStrike">
                <a:solidFill>
                  <a:srgbClr val="003300"/>
                </a:solidFill>
                <a:latin typeface="Arial"/>
                <a:ea typeface="PT Bold Heading"/>
              </a:rPr>
              <a:t> بأنها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80"/>
                </a:solidFill>
                <a:latin typeface="Arial"/>
                <a:cs typeface="PT Bold Heading"/>
              </a:rPr>
              <a:t>القدرة على أداء نشاط معين ذي علاق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00"/>
                </a:solidFill>
                <a:latin typeface="Arial"/>
                <a:ea typeface="PT Bold Heading"/>
              </a:rPr>
              <a:t>( بتخطيط التدريس , تنفيذه , تقويمه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80"/>
                </a:solidFill>
                <a:latin typeface="Arial"/>
                <a:cs typeface="PT Bold Heading"/>
              </a:rPr>
              <a:t>وهذا النشاط قابل للتحليل إلى مجموعة من السلوكيات (الأداءات):   </a:t>
            </a:r>
            <a:r>
              <a:rPr b="0" lang="ar-SA" sz="3200" spc="-1" strike="noStrike">
                <a:solidFill>
                  <a:srgbClr val="333300"/>
                </a:solidFill>
                <a:latin typeface="Arial"/>
                <a:ea typeface="PT Bold Heading"/>
              </a:rPr>
              <a:t>( المعرفية – المهارية – الوجدانية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80"/>
                </a:solidFill>
                <a:latin typeface="Arial"/>
                <a:ea typeface="PT Bold Heading"/>
              </a:rPr>
              <a:t> ومن ثم يمكن تقييمه بحسب معايير الدق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00"/>
                </a:solidFill>
                <a:latin typeface="Arial"/>
                <a:cs typeface="PT Bold Heading"/>
              </a:rPr>
              <a:t>في القيام به وسرعة إنجاز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400"/>
                            </p:stCondLst>
                            <p:childTnLst>
                              <p:par>
                                <p:cTn id="59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700"/>
                            </p:stCondLst>
                            <p:childTnLst>
                              <p:par>
                                <p:cTn id="81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400"/>
                            </p:stCondLst>
                            <p:childTnLst>
                              <p:par>
                                <p:cTn id="92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مهارة طرح الأسئل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Monotype Koufi"/>
              </a:rPr>
              <a:t>هي مجموعة من السلوكيات التدريسية التي يقوم بها المعلم بدقة وسرعة ( </a:t>
            </a:r>
            <a:r>
              <a:rPr b="1" lang="hi-IN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بكفاءة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Monotype Koufi"/>
              </a:rPr>
              <a:t> ) وبقدرة على التكيف مع معطيات الموقف التدريسي .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1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4000"/>
                            </p:stCondLst>
                            <p:childTnLst>
                              <p:par>
                                <p:cTn id="8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5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9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Arial"/>
              </a:rPr>
              <a:t>مهارات طرح الأسئلة الصفية الشفه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إعداد السؤال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توجيه السؤال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نتظار عقب توجيه السؤال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ختيار الطالب المجيب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ستماع إلى الإجاب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نتظار عقب سماع الإجاب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معالجة إجابات الطلاب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تشجيع الطلاب على توليد الأسئلة وتوجيهها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تعامل مع أسئلة الطلاب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2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2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2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2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2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2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هارات طرح الأسئلة التنفيذية (الشفهي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ccff"/>
                </a:solidFill>
                <a:latin typeface="Arial"/>
              </a:rPr>
              <a:t>السلوكيات المكونة لمهارة ( </a:t>
            </a:r>
            <a:r>
              <a:rPr b="1" lang="ar-SA" sz="3600" spc="-1" strike="noStrike">
                <a:solidFill>
                  <a:srgbClr val="99ccff"/>
                </a:solidFill>
                <a:latin typeface="Arial"/>
              </a:rPr>
              <a:t>توجيه السؤال</a:t>
            </a:r>
            <a:r>
              <a:rPr b="1" lang="ar-SA" sz="2800" spc="-1" strike="noStrike">
                <a:solidFill>
                  <a:srgbClr val="99ccff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cc00"/>
                </a:solidFill>
                <a:latin typeface="Arial"/>
              </a:rPr>
              <a:t>ينظم جلوس الطلاب في شكل حلقة أو في شكل حدوة الحصان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يختار الوقت المناسب لتوجيه السؤ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- يوجه السؤال بلغة بسيطة ومفهومة ومباشر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99ccff"/>
                </a:solidFill>
                <a:latin typeface="Arial"/>
              </a:rPr>
              <a:t>يلقي السؤال بحماس وود وتشجيع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يلقي السؤال بالسرعة المناسب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cc00"/>
                </a:solidFill>
                <a:latin typeface="Arial"/>
              </a:rPr>
              <a:t>يتوجه بالسؤال لجميع الطلاب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99ccff"/>
                </a:solidFill>
                <a:latin typeface="Arial"/>
              </a:rPr>
              <a:t>ينوع من أساليب توزيع الأسئلة على الطلا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يشجع جميع الطلاب على المشاركة في الإجاب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99ff66"/>
                </a:solidFill>
                <a:latin typeface="Arial"/>
              </a:rPr>
              <a:t>يوجه الطلاب إلى أهمية التأني قبل طلب الإجابة عن السؤال</a:t>
            </a:r>
            <a:r>
              <a:rPr b="0" lang="ar-SA" sz="28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2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2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2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2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2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2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20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20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2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2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20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20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cc00"/>
                </a:solidFill>
                <a:latin typeface="Arial"/>
              </a:rPr>
              <a:t>مهارات طرح الأسئلة التنفيذية (الشفهية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السلوكيات المكونة لمهارة (</a:t>
            </a:r>
            <a:r>
              <a:rPr b="1" lang="hi-IN" sz="3200" spc="-1" strike="noStrike">
                <a:solidFill>
                  <a:srgbClr val="ffcc00"/>
                </a:solidFill>
                <a:latin typeface="Arial"/>
              </a:rPr>
              <a:t>الانتظار عقب طرح السؤا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ينتظر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ثانية بعد طرح السؤا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- يوجه نظره إلى كافة الطلاب ويتاب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أي إشارات جسدية تصدر عنه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2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2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2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2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2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2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cc00"/>
                </a:solidFill>
                <a:latin typeface="Arial"/>
              </a:rPr>
              <a:t>مهارات طرح الأسئلة التنفيذية (الشفهية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السلوكيات المكونة لمهارة ( </a:t>
            </a:r>
            <a:r>
              <a:rPr b="1" lang="hi-IN" sz="3200" spc="-1" strike="noStrike">
                <a:solidFill>
                  <a:srgbClr val="ffcc00"/>
                </a:solidFill>
                <a:latin typeface="Arial"/>
              </a:rPr>
              <a:t>اختيار الطالب المجيب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ffcc00"/>
                </a:solidFill>
                <a:latin typeface="Arial"/>
              </a:rPr>
              <a:t>يتريث قبل اختيار الطالب المجي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13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ffff99"/>
                </a:solidFill>
                <a:latin typeface="Arial"/>
              </a:rPr>
              <a:t>يعمل على مشاركة أكبر عدد ممكن من الطلاب في الإجابة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ينادي على الطالب المجيب باسم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2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2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cc00"/>
                </a:solidFill>
                <a:latin typeface="Arial"/>
              </a:rPr>
              <a:t>مهارات طرح الأسئلة التنفيذية (الشفهية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السلوكيات المكونة لمهارة (</a:t>
            </a:r>
            <a:r>
              <a:rPr b="1" lang="hi-IN" sz="3200" spc="-1" strike="noStrike">
                <a:solidFill>
                  <a:srgbClr val="ffe701"/>
                </a:solidFill>
                <a:latin typeface="Arial"/>
              </a:rPr>
              <a:t>الاستماع للإجاب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لا يسمح بالإجابات الجماع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يعطي فرصة للطالب لإكمال إجابته ولا يقاط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لا يسمح بمقاطعة الطالب المجيب من قبل زملائه  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ينظر باهتمام للطالب المجيب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يسجل إجابة الطالب المجيب على السبور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2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2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2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2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2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2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2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2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Arial"/>
              </a:rPr>
              <a:t>مهارات طرح الأسئلة التنفيذية (</a:t>
            </a:r>
            <a:r>
              <a:rPr b="1" lang="hi-IN" sz="4000" spc="-1" strike="noStrike">
                <a:solidFill>
                  <a:srgbClr val="009999"/>
                </a:solidFill>
                <a:latin typeface="Arial"/>
              </a:rPr>
              <a:t>الشفهية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سلوكيات المكونة لمهارة (</a:t>
            </a:r>
            <a:r>
              <a:rPr b="1" lang="hi-IN" sz="3200" spc="-1" strike="noStrike">
                <a:solidFill>
                  <a:srgbClr val="333399"/>
                </a:solidFill>
                <a:latin typeface="Arial"/>
              </a:rPr>
              <a:t>الانتظار قبل التعقيب على الإجاب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ينتظر (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ث) قبل التعقيب على الإجاب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يسمح للطالب المجيب بمراجعة إجابته والإضاف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يوجه الطلاب للتفكير في إجابة زميلهم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هارات طرح الأسئلة التنفيذية (</a:t>
            </a:r>
            <a:r>
              <a:rPr b="1" lang="ar-SA" sz="3600" spc="-1" strike="noStrike">
                <a:solidFill>
                  <a:srgbClr val="ffcc00"/>
                </a:solidFill>
                <a:latin typeface="Arial"/>
              </a:rPr>
              <a:t>الشفهية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سلوكيات المكونة لمهارة ( </a:t>
            </a: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معالجة إجابات الطلاب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لا يتجاهل إجابة أيّ طالب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لا يتسرع في إجابة السؤال الذي طرحه على الطلاب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يعزز إجابات الطالب بالعبارات والإشارا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26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- يستخدم وسائل الحض أو الدفع ( إعادة الصياغة – التبسيط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27</a:t>
            </a: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- لا يستخدم عبارات محبطة أو ساخرة تعليقا على إجابات الطلاب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مهارات طرح الأسئلة التنفيذية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الشفهية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9900"/>
                </a:solidFill>
                <a:latin typeface="Arial"/>
              </a:rPr>
              <a:t>السلوكيات المكونة لمهارة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تشجيع الطلاب على طرح الأسئلة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28</a:t>
            </a: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-  يبدي حماسا للطالب الذي يطرح سؤالا جيد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29</a:t>
            </a: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- يستخدم أساليب متنوعة لتشجيع الطلاب على طرح الأسئ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يوضح للطلاب من حين لآخر كيفية صياغة الأسئلة بشكل علمي مفهو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مهارات طرح الأسئلة التنفيذية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ar-SA" sz="4000" spc="-1" strike="noStrike">
                <a:solidFill>
                  <a:srgbClr val="00cc00"/>
                </a:solidFill>
                <a:latin typeface="Arial"/>
              </a:rPr>
              <a:t>الشفهية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سلوكيات المكونة لمهارة (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تعامل مع أسئلة الطلاب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cc00"/>
                </a:solidFill>
                <a:latin typeface="Arial"/>
              </a:rPr>
              <a:t>31- </a:t>
            </a:r>
            <a:r>
              <a:rPr b="1" lang="ar-SA" sz="4400" spc="-1" strike="noStrike">
                <a:solidFill>
                  <a:srgbClr val="00cc00"/>
                </a:solidFill>
                <a:latin typeface="Arial"/>
              </a:rPr>
              <a:t>لا يهمل التعامل مع سؤال أي طالب</a:t>
            </a:r>
            <a:r>
              <a:rPr b="1" lang="ar-SA" sz="4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cc00"/>
                </a:solidFill>
                <a:latin typeface="Arial"/>
              </a:rPr>
              <a:t>.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32-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ينوع من أنماط الاستجابة لسؤال الطالب بحسب متغيرات الموقف التعليمي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5727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000080"/>
                </a:solidFill>
                <a:uFillTx/>
                <a:latin typeface="Arial"/>
                <a:cs typeface="PT Bold Heading"/>
              </a:rPr>
              <a:t>أنواع مهارات التدريس بشكل عام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 u="sng">
                <a:solidFill>
                  <a:srgbClr val="ff0000"/>
                </a:solidFill>
                <a:uFillTx/>
                <a:latin typeface="Arial"/>
                <a:cs typeface="PT Bold Heading"/>
              </a:rPr>
              <a:t>مهارات التخطي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000000"/>
                </a:solidFill>
                <a:uFillTx/>
                <a:latin typeface="Arial"/>
                <a:cs typeface="Monotype Koufi"/>
              </a:rPr>
              <a:t>مهارات التنفي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 u="sng">
                <a:solidFill>
                  <a:srgbClr val="ff0000"/>
                </a:solidFill>
                <a:uFillTx/>
                <a:latin typeface="Arial"/>
                <a:cs typeface="PT Bold Heading"/>
              </a:rPr>
              <a:t>مهارات التقو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000080"/>
                </a:solidFill>
                <a:uFillTx/>
                <a:latin typeface="Arial"/>
                <a:cs typeface="PT Bold Heading"/>
              </a:rPr>
              <a:t>أنواع مهارات التنفيذ بشكل عام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هارة التهيئة الحافز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هارة الاستحواذ على الانتبا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هارة طرح الأسئل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هارة استخدام الوسائل والتقنيات التعليم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700"/>
                            </p:stCondLst>
                            <p:childTnLst>
                              <p:par>
                                <p:cTn id="132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900"/>
                            </p:stCondLst>
                            <p:childTnLst>
                              <p:par>
                                <p:cTn id="13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Arial"/>
              </a:rPr>
              <a:t>ما رأيك في هؤلاء المعلمين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T Bold Heading"/>
              </a:rPr>
              <a:t>  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PT Bold Heading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 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Monotype Koufi"/>
              </a:rPr>
              <a:t>معلم </a:t>
            </a:r>
            <a:r>
              <a:rPr b="1" lang="ar-SA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الحفظ والتسميع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نموذج من أسئلته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كم عدد أشهر السنة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ا ألوان الطيف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تى فتح العرب الأندلس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أين يتقاطع قطرا المستقيم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ا علامة رفع الأسماء الخمسة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33cc"/>
                </a:solidFill>
                <a:latin typeface="Arial"/>
              </a:rPr>
              <a:t>ما رأيك في هؤلاء المعلمين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onotype Koufi"/>
              </a:rPr>
              <a:t> 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Monotype Koufi"/>
              </a:rPr>
              <a:t>معلم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  <a:ea typeface="PT Bold Heading"/>
              </a:rPr>
              <a:t>: نعم / لا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موذج من أسئلته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صلاة الركن الثاني من أركان الإسلام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. أليس كذلك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للأسماك خياشيم تتنفس بها .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ليس كذلك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ليست ( صار) من أخوات كان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أسئلته لا تنمي التفكير؛ لأنها توحي للطلاب بالإجابة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ما رأيك في هؤلاء المعلمين</a:t>
            </a:r>
            <a:r>
              <a:rPr b="1" lang="ar-SA" sz="4800" spc="-1" strike="noStrike">
                <a:solidFill>
                  <a:srgbClr val="0033cc"/>
                </a:solidFill>
                <a:latin typeface="Arial"/>
              </a:rPr>
              <a:t>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onotype Koufi"/>
              </a:rPr>
              <a:t> 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Monotype Koufi"/>
              </a:rPr>
              <a:t>معلم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  <a:ea typeface="PT Bold Heading"/>
              </a:rPr>
              <a:t>: الإجابة الجماعية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موذج من أسئلته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ا عاصمة دولة اليابان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ar-SA" sz="4000" spc="-1" strike="noStrike">
                <a:solidFill>
                  <a:srgbClr val="ffff00"/>
                </a:solidFill>
                <a:latin typeface="Arial"/>
              </a:rPr>
              <a:t>يا شباب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)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ما أول سورة نزلت على النبي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  <a:cs typeface="Simplified Arabic"/>
              </a:rPr>
              <a:t>صلى الله عليه وسلم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يا أبنائي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  <a:cs typeface="PT Bold Heading"/>
              </a:rPr>
              <a:t>لأنها توحي للطلاب بالإجابة الجماعية</a:t>
            </a:r>
            <a:r>
              <a:rPr b="1" lang="ar-SA" sz="4800" spc="-1" strike="noStrike">
                <a:solidFill>
                  <a:srgbClr val="ffff00"/>
                </a:solidFill>
                <a:latin typeface="Arial"/>
              </a:rPr>
              <a:t>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ما رأيك في هؤلاء المعلمين</a:t>
            </a:r>
            <a:r>
              <a:rPr b="1" lang="ar-SA" sz="4800" spc="-1" strike="noStrike">
                <a:solidFill>
                  <a:srgbClr val="0033cc"/>
                </a:solidFill>
                <a:latin typeface="Arial"/>
              </a:rPr>
              <a:t>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onotype Koufi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Monotype Koufi"/>
              </a:rPr>
              <a:t>المعلم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Monotype Koufi"/>
              </a:rPr>
              <a:t>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  <a:ea typeface="PT Bold Heading"/>
              </a:rPr>
              <a:t> ( الهلامي )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موذج من أسئلته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من يحدثنا عن الطائرات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قل لي يا أحمد شيئا عن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الصوم في رمضان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خبروني عن جغرافية دولة البحرين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PT Bold Heading"/>
              </a:rPr>
              <a:t>إنها أسئلة غير محددة (فضفاضة) لا يتضح للطلاب الغرض منها </a:t>
            </a: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2" dur="indefinite" restart="never" nodeType="tmRoot">
          <p:childTnLst>
            <p:seq>
              <p:cTn id="1463" dur="indefinite" nodeType="mainSeq">
                <p:childTnLst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78920" y="215640"/>
            <a:ext cx="8820360" cy="638172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Simplified Arabic"/>
              </a:rPr>
              <a:t>( 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ea typeface="Simplified Arabic"/>
              </a:rPr>
              <a:t>1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Simplified Arabic"/>
              </a:rPr>
              <a:t> )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Simplified Arabic"/>
              </a:rPr>
              <a:t> </a:t>
            </a:r>
            <a:r>
              <a:rPr b="1" lang="ar-SA" sz="4000" spc="-1" strike="noStrike" u="sng">
                <a:solidFill>
                  <a:srgbClr val="ffffff"/>
                </a:solidFill>
                <a:uFillTx/>
                <a:latin typeface="Arial"/>
                <a:cs typeface="Simplified Arabic"/>
              </a:rPr>
              <a:t>مهارة</a:t>
            </a:r>
            <a:r>
              <a:rPr b="1" lang="ar-SA" sz="4000" spc="-1" strike="noStrike" u="sng">
                <a:solidFill>
                  <a:srgbClr val="0000ff"/>
                </a:solidFill>
                <a:uFillTx/>
                <a:latin typeface="Arial"/>
                <a:ea typeface="Simplified Arabic"/>
              </a:rPr>
              <a:t> </a:t>
            </a: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  <a:cs typeface="Simplified Arabic"/>
              </a:rPr>
              <a:t>التهيئة الحافز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  <a:cs typeface="Traditional Arabic"/>
              </a:rPr>
              <a:t>يتوقع من المتدرب بعد إتمام المناشط التدريبية  أن يكون قادرا على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تحديد المقصود بمفهوم التهيئة الحافزة للطلاب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استنتاج الأهداف الرئيسة لعملية التهيئة الحافزة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Arial"/>
                <a:cs typeface="Traditional Arabic"/>
              </a:rPr>
              <a:t>استنتاج العلاقة بين هذه المهارة وتحقيق الأهداف التعليمة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تحديد الأساليب المتعددة لاستخدامها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تحديد السلوكيات المكونة لهذه المهارة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تأدية هذه المهارة باستخدام أسلوب تمثيل الأدوار 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تهيئة الطلاب لموضوع الدرس الجد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 أ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كل ما يقوله المعلم أو يفعله أو يوجه به الطلاب قبيل بدء تعلم درس جديد بغرض إعداد الطلا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0000"/>
                </a:solidFill>
                <a:latin typeface="Arial"/>
              </a:rPr>
              <a:t>عقليا </a:t>
            </a:r>
            <a:r>
              <a:rPr b="1" lang="hi-IN" sz="48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hi-IN" sz="4800" spc="-1" strike="noStrike">
                <a:solidFill>
                  <a:srgbClr val="ff0000"/>
                </a:solidFill>
                <a:latin typeface="Arial"/>
              </a:rPr>
              <a:t>وجدانيا </a:t>
            </a:r>
            <a:r>
              <a:rPr b="1" lang="hi-IN" sz="48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hi-IN" sz="4800" spc="-1" strike="noStrike">
                <a:solidFill>
                  <a:srgbClr val="ff0000"/>
                </a:solidFill>
                <a:latin typeface="Arial"/>
              </a:rPr>
              <a:t>جسمي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لتعلم هذا الدرس وجعلهم في حالة قوامها الاستعداد للتعلم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تهيئة الطلاب لموضوع الدرس الجد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r" rtl="1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80"/>
                </a:solidFill>
                <a:latin typeface="Arial"/>
                <a:ea typeface="Simplified Arabic"/>
              </a:rPr>
              <a:t>( ب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r" rtl="1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80"/>
                </a:solidFill>
                <a:latin typeface="Arial"/>
                <a:cs typeface="Simplified Arabic"/>
              </a:rPr>
              <a:t>مجموعة السلوكيات ( الأداءات ) التي يقوم بها المعلم بدقة وسرعة وبقدرة تمكنه من التكيف مع معطيات المواقف التدريسية في مستهل تعلم الطلاب للدرس الجديد أو أحد عناصره قاصدا وضعهم في حالة استعداد للتعلم </a:t>
            </a:r>
            <a:r>
              <a:rPr b="1" lang="ar-SA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 u="sng">
                <a:solidFill>
                  <a:srgbClr val="ffffff"/>
                </a:solidFill>
                <a:uFillTx/>
                <a:latin typeface="Arial"/>
                <a:cs typeface="Monotype Koufi"/>
              </a:rPr>
              <a:t>أهداف عملية التهيئة الحافز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Simplified Arabic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Simplified Arabic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Simplified Arabic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Simplified Arabic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Simplified Arabic"/>
              </a:rPr>
              <a:t>-تركيز انتباه الطلاب على موضوع الدرس الجدي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00ff00"/>
                </a:solidFill>
                <a:latin typeface="Arial"/>
              </a:rPr>
              <a:t>تزويد الطلاب بما هو متوقع منهم أن يتعلموه وما سوف يحققونه من أهداف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 تحفيز ما لدى الطلاب من متطلبات التعلم المسبقة  واستدعاؤها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تزويدهم بإطار عام تنظيمي لما سوف يتضمنه المحتو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من نقاط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11383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i-IN" sz="4800" spc="-1" strike="noStrike">
                <a:solidFill>
                  <a:srgbClr val="0000ff"/>
                </a:solidFill>
                <a:latin typeface="Arial"/>
                <a:cs typeface="Thaghr 5 Hor."/>
              </a:rPr>
              <a:t>أساليب التهيئة لموضوع الدرس الجديد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Thaghr 5 Hor.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أول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طرح الأسئلة التحفيز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5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ثاني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0" lang="hi-IN" sz="4400" spc="-1" strike="noStrike">
                <a:solidFill>
                  <a:srgbClr val="ffff00"/>
                </a:solidFill>
                <a:latin typeface="Arial"/>
                <a:cs typeface="Thaghr 5 Hor."/>
              </a:rPr>
              <a:t>الطرائف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ثالث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حكي القص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رابع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Monotype Koufi"/>
              </a:rPr>
              <a:t>عرض الأحداث الجار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خامس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ممارسة الطلاب للأنشطة الاستقصائ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2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11383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Thaghr 5 Hor."/>
              </a:rPr>
              <a:t>أساليب التهيئة لموضوع الدرس الجديد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 algn="r" rtl="1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الأسلوب السادس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PT Bold Heading"/>
              </a:rPr>
              <a:t>: </a:t>
            </a: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PT Bold Heading"/>
              </a:rPr>
              <a:t>تقديم بعض الآيات القرآنية أو الأحاديث    النبوية أو الأقوال المأثور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 rtl="1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الأسلوب الساب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PT Bold Heading"/>
              </a:rPr>
              <a:t> : </a:t>
            </a: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PT Bold Heading"/>
              </a:rPr>
              <a:t>إعلامهم بما هو متوقع منهم أن يتعلموه                   في الدرس أو يحققوه من أهداف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 rtl="1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الأسلوب الثام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PT Bold Heading"/>
              </a:rPr>
              <a:t> : </a:t>
            </a: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PT Bold Heading"/>
              </a:rPr>
              <a:t>ربط الدرس السابق بالدرس الحال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1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6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4T00:54:22Z</dcterms:created>
  <dc:creator>محمد الردادي </dc:creator>
  <dc:description/>
  <dc:language>en-US</dc:language>
  <cp:lastModifiedBy>sa</cp:lastModifiedBy>
  <dcterms:modified xsi:type="dcterms:W3CDTF">2007-01-06T22:19:01Z</dcterms:modified>
  <cp:revision>54</cp:revision>
  <dc:subject/>
  <dc:title>الشريحة 1</dc:title>
</cp:coreProperties>
</file>