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0AE-4119-49CA-9DA4-9D84C7CD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9C6-33CB-4CD5-BA67-2957540F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118-0B26-4E5D-8121-5FB16520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4E0-B22A-45AD-A944-B7B70E3E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6A9-3CE4-4C48-B597-6990B0FE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D10-6A42-4CFE-9E2C-306103AF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758-26D4-4339-92F2-81FC235F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4A8-3409-4834-9E50-37B2711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5A1-98B0-4BD0-8CC3-8BABF990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A98-1213-4B61-8B10-47838012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E2B-1E2F-487A-AE66-55F378A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447-B34A-4820-9373-1FA6E6FD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600" y="6629040"/>
            <a:ext cx="5867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8149-4844-415B-9264-02C7D30F343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إن عبد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يره الله بين الدنيا وبين ما عند الله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ختار ما عند الله  فلم يفهم أحد قصد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هذه الجمله ، وكان يقصد نفسه ، سيدنا أبوبكر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وحيد الذي فهم هذه الجمله ، فانفجر بالبكاءوعلي نحيبه ووقف وقاطع النبي وقال : فدين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آبائنا ، فديناك بأمهاتنا ، فديناء بأولادن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زواجن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موالنا ، 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ظر الناس إلي أبوبكر ، كيف يقاطع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 النبي يدافع عن أبوبكر قائلا :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اس ، دعو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بوبكر ، فما منكم من أحد كان له عندنا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ل إلا كافأناه به ، إلا أبوبكر لم أستط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كافأته ، فتركت مكافأته إلي الله عز وج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كل الأبواب إلي المسجد تسد إلا باب أبوبكرلا يسد أبد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1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أخيرا قبل نزوله من المنبر .. بدأ ال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دعاء للمسلمين قبل الوفاه كآخر دعو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م ،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واكم الله ، حفظكم الله ، نصركم الله ، ثبت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، أيدكم الله  .. وآخر كلمه قاله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خر كلمه موجهه للأمه من علي منبره قبل نزو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قرأوا مني السلام كل من تبعني من أمت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يوم القيام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حمل مرة أخري إلي بيته . وهو هناك دخل عل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بد الرحمن بن أبي بكر وفي يده سواك ، فظ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ينظر الي السو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لكنه لم يستطيع ان يطلبه من ش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ضه . ففهمت السيده عائشه من نظرة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ت السواك من عبد الرحمن ووضعته في ف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، فلم يستطع أن يستاك به ، فأخذته من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علت تلي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فمها وردته للنبي مره أخري حتي يكون طريا عليه فقالت : كان آخر شئ دخل جوف النبي 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يقي ، فكان من فضل الله علي أن جمع بين ريق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ريق النبي قبل أن ي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ثم  دخ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طمه بنت النبي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خلت بكت ، لأن النبي لم يستطع القيام ، لأ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ان يقبلها بين عينيها كلما جاءت إ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فحدث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أذنها ، فبكت أكثر . فلما بكت قال ل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) فحدثها مره أخري ف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ذنها ، 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عد وفاته سئلت ماذا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ك النبي ، فقالت : قال لي في المره الأول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فاطمه ، إني ميت الليله ، فبكيت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دني أبك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ال :( يا فاطمه ، أنتي أول أهلي لحاقا 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ثم قال النبي :( أخرجوامن عندي في البيت ) وقال : ( ادنو مني يا عائش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ام النبي علي صدر زوجته ، ويرفع يده للسماء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يقول : بل الرفيق الأعلي ، بل الرفيق الأعل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فعرفت أنه يخير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سيدنا جبريل دخل علي النبي وقال : يا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، ملك الموت بالباب ، يستأذن أن يدخ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ك ، وما استأذن علي أحد من قبل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: إءذن له يا جبري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دخل ملك الموت علي النبي وقال : السلام علي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رسول الله ، أرسلني الله أخيرك ، بين البق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 الدنيا وبين أن تلحق بالله . فقال الن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ل الرفي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أعلي ، بل الرفيق الأعل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وقف ملك الموت عند رأس النبي وقال : أيت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وح الطيبه ، روح محمد بن عبد الله ، أخرج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رضا من الله و رضوان ورب راض غير غضب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فسقطت يد النبي وثق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رأسه في صدري ، فعرفت أنه قد مات ... فلم أدر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أفعل ، فما كان مني غير أن خرجت من حجر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فتحت بابي الذي يطل علي الرجال في المسج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قول مات رسول الله ، مات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فجر المسجد بالبكاء . فهذا علي بن أ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طالب أقعد ، وهذ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ثمان بن عفان كالصبي يؤخذ بيده يمني ويسر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هذا عمر بن الخطاب يرفع سيفه ويقول من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ه قد مات قطعت رأسه ، إ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هب للقاء ربه كما ذه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سى للقاء ربه وسيعود ويقتل من قال أنه ق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ت . أما أثبت الناس فكان أبوبكر الصديق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ضي الله عنه دخل علي النبي واحتضنه و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 خلي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فياه ، وآآآ حبيباه ، وآآآ نبياه . وقبل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ال : طبت حيا وطبت ميتا يا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خرج يقول : من كان يعبد محمدا فإن محمد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 ، ومن كان يعبد الله فإن الله حي ل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موت ... ويسقط السيف من يد عمر بن الخطاب ،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ول : فعرفت أنه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يقول : فخرجت أجري أبحث عن مكان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جلس فيه وحدي لأبكي وحد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بل الوفاة ، آخر شئ للرسول كان حجة الوداع، وبعدها نزل قول الله عز وجل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وم أكملت لكم دينكم وأتممت عليكم نعمتي ورضيت ل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اسل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دين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كي أبوبكر الصديق عند سماعه هذه الآي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وا له مايبكيك يا أبوبكر انها آيه مثل كل آيه نزلت علي الرسول .. فقال : هذا نع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دفن النبي  والسيد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طمه تقول : أطابت أنفسكم أن تحثوا التراب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وجه النبي ... ووقفت تنعي النبي وتق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أبتاه ، أجاب ربا دعاه ، يا أبتاه ، جنة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فردوس مأواه ، يا أبتاه ، الي جبريل ننعا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ري ، هل ستترك حياتك كما هي بعد وصايا 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صلي الله عليه وسلم لك في آخر كلم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 ؟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 أدري ماذا ستفعل كي تصبر علي ابتلاء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 rtl="1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جاء من فضلك وليس امر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 اعجبك محتوى الرسالة اعد ارسلها لغيرك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 الدال على الخير  كفاعل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نزلت آخ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يه من القرآن  واتقوا يوما ترجعون ف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 الله ثم توفي كل نفس ما كسبت وهم لا يظلم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بدأ الوجع يظهر علي الرسول فقال : أريد أ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زور شهداء أحد  فذهب الي شهداء أحد ووق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قبور الشهداء وقال : السلام عليكم ي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شهداء أحد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نتم السابقون وإنا إنشاء الله بكم لاحقون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وإني إنشاء الله بكم لاح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ثناء رجوعه من الزياره بك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لى الله عليه وسلم قالوا ما يبكيك يا 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؟ قال : اشتقت الي إخوان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، قالو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ولسنا إخوانك يا رسول الله ؟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تم أصحابي ، أما إخواني فقوم يأتون من بعد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ؤمنون بي ولم يرو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Arial"/>
              </a:rPr>
              <a:t>اللهم أنا نسالك أن نكون منه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 ، 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بدأ الوج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شتد عليه وكان في بيت السيده ميمونه ،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جمعوا زوجاتي  ، فجمعت الزوجات ، فقا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تأذنون لي أن أمرض في بيت عائشه ؟  فقل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ذن لك يا رسول الله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جاء علي بن أبي طالب والفضل بن العباس فحم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خرجوا به من حجرة السيده ميمونه الي حجر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فرآه الصحابه علي هذا الح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أول 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بدأ الصحابه في السؤال بهل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ذا أحل برسول الله .. ماذا أحل ب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جمع الناس في المسجد وامتلأ وتزاحم النا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دأ العرق يتصبب من النبي بغزاره ، فقا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: لم أر في حياتي أحد يتصبب عرقابهذا الشكل . فتقول : كنت آخذ بيد النبي وأمسح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ها وجهه لأن يد النبي أكرم وأطيب من يدي. وتق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سمعه يقول : لا اله إلا الله ، إن لل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سكر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قول السيده عائشه : فكثر اللغ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ي الحديث ف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جد اشفاقا علي الرسول فقال النبي : ماهذا؟. فقالوا : يارسول الله ، يخافون عليك .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حملوني إليهم.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صبوا عليه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قرب من الماء حتي يفيق . فحم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وصعد إلي المنبر .. آخر خطبه لرسول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 آخر كلمات 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 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 ، كأنكم تخاف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ي  فقالوا : نعم يارسول الله .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موعدكم معي ليس الدنيا ، موعدكم مع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ند الحو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له لكأني أنظر اليه من مقامي هذا .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و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الفقر أخشي عليكم ، ولكني أخشي عليكم 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تنافسوها كما تنافسها الذين من قبلك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تهلككم كما أهلكته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  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في الصلاه ، الله الله في الصلاه  بمعن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ستحلفكم بالله العظيم أن تحافظوا علي الص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8:40:16Z</dcterms:created>
  <dc:creator>NIDHAL JABER</dc:creator>
  <dc:description/>
  <dc:language>en-US</dc:language>
  <cp:lastModifiedBy>ucs</cp:lastModifiedBy>
  <dcterms:modified xsi:type="dcterms:W3CDTF">2006-10-19T07:29:11Z</dcterms:modified>
  <cp:revision>40</cp:revision>
  <dc:subject/>
  <dc:title>اللحظات الأخيره  </dc:title>
</cp:coreProperties>
</file>