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2F7-FF1C-4669-8799-6C18863B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814-4844-4816-86D0-930A353F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A32-6088-4B41-A65B-3C65B621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0B5-8DBB-4978-A290-9F5C07E1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4EA-D90F-4480-910C-E0701DF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44792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812040"/>
            <a:ext cx="277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BE3-9F6A-4238-A336-304F53BB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AA9-B60C-4AC0-A940-C11CE96B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BBD-8D98-4FD4-8258-F0AF46F9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2A2-DA3E-4E60-AB2E-54C71581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77A-F097-4B1E-B91C-1427549B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0760" y="381204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214-7611-4A19-9A3B-68B2A229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447920"/>
            <a:ext cx="4201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12040"/>
            <a:ext cx="8610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A1D-C728-4EA9-9AA0-8050F0C9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600" y="6629040"/>
            <a:ext cx="5867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6138-4D0D-45D0-AAE7-8865CC1CCA4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48320" y="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إن عبد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يره الله بين الدنيا وبين ما عند الله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ختار ما عند الله  فلم يفهم أحد قصد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 هذه الجمله ، وكان يقصد نفسه ، سيدنا أبوبكر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وحيد الذي فهم هذه الجمله ، فانفجر بالبكاءوعلي نحيبه ووقف وقاطع النبي وقال : فدين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آبائنا ، فديناك بأمهاتنا ، فديناء بأولادن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زواجن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ديناك بأموالنا ، 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7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ظر الناس إلي أبوبكر ، كيف يقاطع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 النبي يدافع عن أبوبكر قائلا :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اس ، دعو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بوبكر ، فما منكم من أحد كان له عندنا م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ل إلا كافأناه به ، إلا أبوبكر لم أستط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كافأته ، فتركت مكافأته إلي الله عز وج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كل الأبواب إلي المسجد تسد إلا باب أبوبكرلا يسد أبد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lnSpc>
                <a:spcPct val="1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أخيرا قبل نزوله من المنبر .. بدأ ال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دعاء للمسلمين قبل الوفاه كآخر دع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م ،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واكم الله ، حفظكم الله ، نصركم الله ، ثبت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، أيدكم الله  .. وآخر كلمه قالها ،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آخر كلمه موجهه للأمه من علي منبره قبل نزو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قرأوا مني السلام كل من تبعني من أمت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يوم القيام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حمل مرة أخري إلي بيته . وهو هناك دخل عل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بد الرحمن بن أبي بكر وفي يده سواك ، فظ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ينظر الي السوا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لكنه لم يستطيع ان يطلبه من ش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ضه . ففهمت السيده عائشه من نظرة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خذت السواك من عبد الرحمن ووضعته في ف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، فلم يستطع أن يستاك به ، فأخذته من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علت تلي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فمها وردته للنبي مره أخري حتي يكون طريا عليه فقالت : كان آخر شئ دخل جوف النبي ه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يقي ، فكان من فضل الله علي أن جمع بين ريق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ريق النبي قبل أن ي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ثم  دخ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اطمه بنت النبي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خلت بكت ، لأن النبي لم يستطع القيام ، لأ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ان يقبلها بين عينيها كلما جاءت إ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فحدث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ي أذنها ، فبكت أكثر . فلما بكت قال لها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دنو مني يا فاطمه ) فحدثها مره أخري ف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نها ، 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عد وفاته سئلت ماذا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ك النبي ، فقالت : قال لي في المره الأول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فاطمه ، إني ميت الليله ، فبكيت ، فلم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جدني أبك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ال :( يا فاطمه ، أنتي أول أهلي لحاقا 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ضحك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ثم قال النبي :( أخرجوامن عندي في البيت ) وقال : ( ادنو مني يا عائش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نام النبي علي صدر زوجته ، ويرفع يده للسماء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يقول : بل الرفيق الأعلي ، بل الرفيق الأعل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 السيده عائشه : فعرفت أنه يخير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سيدنا جبريل دخل علي النبي وقال : يا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، ملك الموت بالباب ، يستأذن أن يدخ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ك ، وما استأذن علي أحد من قبلك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: إءذن له يا جبري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دخل ملك الموت علي النبي وقال : السلام علي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رسول الله ، أرسلني الله أخيرك ، بين البقا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 الدنيا وبين أن تلحق بالله . فقال الن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ل الرفي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أعلي ، بل الرفيق الأعل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وقف ملك الموت عند رأس النبي وقال : أيت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وح الطيبه ، روح محمد بن عبد الله ، أخرج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لي رضا من الله و رضوان ورب راض غير غضبا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ول السيده عائشه : فسقطت يد النبي وثق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رأسه في صدري ، فعرفت أنه قد مات ... فلم أد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أفعل ، فما كان مني غير أن خرجت من حجر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r" rtl="1">
              <a:lnSpc>
                <a:spcPct val="12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فتحت بابي الذي يطل علي الرجال في المسج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قول مات رسول الله ، مات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ق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فجر المسجد بالبكاء . فهذا علي بن أب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طالب أقعد ، وهذ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ثمان بن عفان كالصبي يؤخذ بيده يمني ويسر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هذا عمر بن الخطاب يرفع سيفه ويقول من 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ه قد مات قطعت رأسه ، إن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ذهب للقاء ربه كما ذه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وسى للقاء ربه وسيعود ويقتل من قال أنه ق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ت . أما أثبت الناس فكان أبوبكر الصديق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ضي الله عنه دخل علي النبي واحتضنه و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 خلي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آآ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فياه ، وآآآ حبيباه ، وآآآ نبياه . وقبل 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ال : طبت حيا وطبت ميتا يا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خرج يقول : من كان يعبد محمدا فإن محمد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 ، ومن كان يعبد الله فإن الله حي ل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موت ... ويسقط السيف من يد عمر بن الخطاب ،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قول : فعرفت أنه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د م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يقول : فخرجت أجري أبحث عن مكان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جلس فيه وحدي لأبكي وحد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..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قبل الوفاة ، آخر شئ للرسول كان حجة الوداع، وبعدها نزل قول الله عز وجل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وم أكملت لكم دينكم وأتممت عليكم نعمتي ورضيت لكم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اسل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دين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كي أبوبكر الصديق عند سماعه هذه الآي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قالوا له مايبكيك يا أبوبكر انها آيه مثل كل آيه نزلت علي الرسول .. فقال : هذا نع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دفن النبي  والسيده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طمه تقول : أطابت أنفسكم أن تحثوا التراب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وجه النبي ... ووقفت تنعي النبي وتق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ا أبتاه ، أجاب ربا دعاه ، يا أبتاه ، جنة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فردوس مأواه ، يا أبتاه ، الي جبريل ننعا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ري ، هل ستترك حياتك كما هي بعد وصايا رسو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صلي الله عليه وسلم لك في آخر كلم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ه ؟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لا أدري ماذا ستفعل كي تصبر علي ابتلاء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 rtl="1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رجاء من فضلك وليس امرا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 اعجبك محتوى الرسالة اعد ارسلها لغيرك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ان الدال على الخير  كفاعله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نزلت آخ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يه من القرآن  واتقوا يوما ترجعون في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ي الله ثم توفي كل نفس ما كسبت وهم لا يظلم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بدأ الوجع يظهر علي الرسول فقال : أريد أ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زور شهداء أحد  فذهب الي شهداء أحد ووق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 قبور الشهداء وقال : السلام عليكم ي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شهداء أحد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نتم السابقون وإنا إنشاء الله بكم لاحقون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وإني إنشاء الله بكم لاح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أثناء رجوعه من الزياره بكي 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صلى الله عليه وسلم قالوا ما يبكيك يا رسو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له ؟ قال : اشتقت الي إخوان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، قالو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ولسنا إخوانك يا رسول الله ؟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نتم أصحابي ، أما إخواني فقوم يأتون من بعد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ؤمنون بي ولم يرو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 . </a:t>
            </a:r>
            <a:r>
              <a:rPr b="1" lang="ar-SA" sz="2800" spc="-1" strike="noStrike">
                <a:solidFill>
                  <a:srgbClr val="333399"/>
                </a:solidFill>
                <a:latin typeface="Arial"/>
                <a:cs typeface="Arial"/>
              </a:rPr>
              <a:t>اللهم أنا نسالك أن نكون منهم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عاد الرسول ، وقبل الوفاه ب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أيام بدأ الوج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يشتد عليه وكان في بيت السيده ميمونه ،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جمعوا زوجاتي  ، فجمعت الزوجات ، فقال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تأذنون لي أن أمرض في بيت عائشه ؟  فقل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ذن لك يا رسول الله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جاء علي بن أبي طالب والفضل بن العباس فحمل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خرجوا به من حجرة السيده ميمونه الي حجر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فرآه الصحابه علي هذا الح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أول 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يبدأ الصحابه في السؤال بهل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اذا أحل برسول الله .. ماذا أحل برسول 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جمع الناس في المسجد وامتلأ وتزاحم الن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علي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بدأ العرق يتصبب من النبي بغزاره ، فقال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سيده عائشه : لم أر في حياتي أحد يتصبب عرقابهذا الشكل . فتقول : كنت آخذ بيد النبي وأمسح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بها وجهه لأن يد النبي أكرم وأطيب من يدي. وتقو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أسمعه يقول : لا اله إلا الله ، إن للمو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لسكرات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مر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تقول السيده عائشه : فكثر اللغ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أي الحديث ف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مسجد اشفاقا علي الرسول فقال النبي : ماهذا؟. فقالوا : يارسول الله ، يخافون عليك . فقا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حملوني إليهم. فأراد أن يقوم فما استطا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صبوا عليه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قرب من الماء حتي يفيق . فحم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نبي وصعد إلي المنبر .. آخر خطبه لرسول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و آخر كلمات 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lnSpc>
                <a:spcPct val="14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قال النبي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 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 الناس ، كأنكم تخافو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ي  فقالوا : نعم يارسول الله . ف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موعدكم معي ليس الدنيا ، موعدكم مع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ند الحو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له لكأني أنظر اليه من مقامي هذا . 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والله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الفقر أخشي عليكم ، ولكني أخشي عليكم الدني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ن تنافسوها كما تنافسها الذين من قبلك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تهلككم كما أهلكته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  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لحظات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l-Hadith1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l-Hadith1"/>
              </a:rPr>
              <a:t>الأخير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1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قال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اس ، الل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له في الصلاه ، الله الله في الصلاه  بمعن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ستحلفكم بالله العظيم أن تحافظوا علي الصل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ظل يرددها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8:40:16Z</dcterms:created>
  <dc:creator>NIDHAL JABER</dc:creator>
  <dc:description/>
  <dc:language>en-US</dc:language>
  <cp:lastModifiedBy>ucs</cp:lastModifiedBy>
  <dcterms:modified xsi:type="dcterms:W3CDTF">2006-10-19T07:29:11Z</dcterms:modified>
  <cp:revision>40</cp:revision>
  <dc:subject/>
  <dc:title>اللحظات الأخيره  </dc:title>
</cp:coreProperties>
</file>